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C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30C22E-AF40-4A10-B43E-1870B79ED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C9DD55-2178-4154-AAE3-1FB52F7AE464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5C8965-C783-4B39-97BE-BF991887B46C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A5EF37-70F4-4405-821C-F323605D3DEA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66177F-DED3-4776-956F-CCDB15751A6C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3256F2-1C46-4245-831B-4E56D3E9A429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9E42E6-0FBF-4F75-A098-1DBAF6E40D0A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182482-3A46-4DD8-B4DF-BD3E755D0FFD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7C828B-7C3D-42EB-B1E0-6CAA397D4B80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F01018-68C6-4E63-BC04-DA7DE4D929CA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6A821D-C088-4F86-822F-309AD1172827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21BC21-EB82-400E-B6C6-DF71E5F00E58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104AC5-7B55-4A4E-AC4D-4C6C27CAB510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76DF87-9CE6-4787-B011-23B956A8A448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6655F2-8E66-4B72-84B5-E9A0EB2816B5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55D117-68EE-4446-B86C-7605EF7689BE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526607-7045-4CD9-AF88-5431EE534061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8F9989-4865-4FB5-8BC1-EDF5DF637E87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B1DBD6-BB1D-4EFE-9477-E6C82DBCD957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B2B5F6-6E41-46F2-97AD-42A1D4698112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2AC1-D252-45D7-8474-13353963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738E-B4A0-4B84-80E1-28E22A9E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7FD-DFF7-482C-BABB-19F9C1D2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18F-0CCB-4317-99AC-FC29434B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89A6-79D8-48FC-88DF-CDF3E31A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1A98-A591-4909-8208-07C3B825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61DA-C6CA-4742-853F-3B9D4BFC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E08A-6214-43AB-B9A6-12B959A1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ECA5-D269-4BA0-AC7D-ED02757C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BFB8-8644-4080-B6EA-0ECA3670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0D0B-04A5-4EE4-BFAE-8A160E31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B3D-4463-43F6-B351-B96AA111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1673-8A46-4BCA-A6A6-060AF7B7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FD37-D2C8-4AC4-9BF4-176AFAFB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E785-AB0E-4D8A-9D13-81D66C8D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6F25-9F5C-4834-80F8-198C1FEF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32DD-FC93-4A0F-8661-E4901911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7956-CFAA-4BD4-BFD9-16467CA0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5BA3-009A-4D2B-AA89-1116E39C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EFF-D028-4A30-BD7F-F627E010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215-BE43-468A-A4B2-C23BE982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F5C-F3A3-4D35-9719-89C484EE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0F7-F51E-4963-8BA6-2E9CE633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74EC-B4BD-4981-B9AC-84148E83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13 Triángulo rectángulo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9 Triángulo rectángulo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9000"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48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s-EC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1 Grupo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6 Forma libre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7 Forma libre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10 Forma libre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11 Conector recto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s-EC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C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C6D2F1-9EA2-44AE-8093-3DECB251DCE9}" type="slidenum">
              <a:rPr b="0" lang="es-EC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C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s-EC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s-EC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C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2 Forma libre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11 Forma libre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13 Triángulo rectángulo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Haga clic para modificar el estilo de texto del patrón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Segundo nivel</a:t>
            </a:r>
            <a:endParaRPr b="0" lang="es-EC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Tercer nivel</a:t>
            </a:r>
            <a:endParaRPr b="0" lang="es-EC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uarto nivel</a:t>
            </a:r>
            <a:endParaRPr b="0" lang="es-EC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Quinto nivel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s-EC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C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DBE53A-1BAD-43BD-844C-92B31DFB9429}" type="slidenum">
              <a:rPr b="0" lang="es-EC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S" sz="41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3640" y="188640"/>
            <a:ext cx="777204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3200" spc="-1" strike="noStrike">
                <a:solidFill>
                  <a:srgbClr val="c00000"/>
                </a:solidFill>
                <a:latin typeface="Lucida Sans Unicode"/>
              </a:rPr>
              <a:t>UNIVERSIDAD LAICA ELOY ALFARO DE MANABI - </a:t>
            </a:r>
            <a:r>
              <a:rPr b="1" lang="es-EC" sz="2400" spc="-1" strike="noStrike">
                <a:solidFill>
                  <a:srgbClr val="464646"/>
                </a:solidFill>
                <a:latin typeface="Lucida Sans Unicode"/>
              </a:rPr>
              <a:t>DPTO. DE MEDIO AMBIENTE</a:t>
            </a:r>
            <a:br>
              <a:rPr sz="2400"/>
            </a:br>
            <a:br>
              <a:rPr sz="2400"/>
            </a:br>
            <a:r>
              <a:rPr b="1" lang="es-EC" sz="3200" spc="-1" strike="noStrike">
                <a:solidFill>
                  <a:srgbClr val="0070c0"/>
                </a:solidFill>
                <a:latin typeface="Lucida Sans Unicode"/>
              </a:rPr>
              <a:t>UNIVERSIDAD DE PLAYA ANCHA </a:t>
            </a:r>
            <a:br>
              <a:rPr sz="3200"/>
            </a:br>
            <a:r>
              <a:rPr b="1" lang="es-EC" sz="2400" spc="-1" strike="noStrike">
                <a:solidFill>
                  <a:srgbClr val="464646"/>
                </a:solidFill>
                <a:latin typeface="Lucida Sans Unicode"/>
              </a:rPr>
              <a:t>CENTRO DE INVESTIGACION CIENTIFICA</a:t>
            </a:r>
            <a:endParaRPr b="0" lang="es-EC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1640" y="2925000"/>
            <a:ext cx="7772040" cy="374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ES" sz="3600" spc="-1" strike="noStrike">
                <a:solidFill>
                  <a:srgbClr val="464646"/>
                </a:solidFill>
                <a:latin typeface="Lucida Sans Unicode"/>
              </a:rPr>
              <a:t>Relaciones de procesos físicos del calentamiento global y cambio climático entre la Antártida y Ecu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EC" sz="2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1" lang="es-EC" sz="4800" spc="-1" strike="noStrike">
                <a:solidFill>
                  <a:srgbClr val="464646"/>
                </a:solidFill>
                <a:latin typeface="Lucida Sans Unicode"/>
              </a:rPr>
              <a:t>SENESCYT - INA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- DINÁMICA DE PLAYA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7" name="Picture 2" descr="C:\ING. JIMMY CEVALLOS\ANTÁRTIDA 2013 INAE\ANTARTIDA FEBRERO 2013\FOTOS ESM -GAL\FOTOS GEORREFERENCIADAS GALAPAGOS\IMG_0331.JPG"/>
          <p:cNvPicPr/>
          <p:nvPr/>
        </p:nvPicPr>
        <p:blipFill>
          <a:blip r:embed="rId1"/>
          <a:stretch/>
        </p:blipFill>
        <p:spPr>
          <a:xfrm>
            <a:off x="179640" y="1052640"/>
            <a:ext cx="8784720" cy="56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3200" spc="-1" strike="noStrike">
                <a:solidFill>
                  <a:srgbClr val="000000"/>
                </a:solidFill>
                <a:latin typeface="Lucida Sans Unicode"/>
              </a:rPr>
              <a:t>Es factible establecer correlaciones sobre anomalías de procesos físicos asociados con los efectos del calentamiento global y cambio climático en la zona costera, que vinculen procesos en la Antártica con el Ecuador. Estas anomalías se intensifican ante la presencia del fenómeno El Niño – Oscilación Sur, tanto en su fase cálida como fría</a:t>
            </a:r>
            <a:r>
              <a:rPr b="0" lang="es-EC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s-EC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HIPÓTESIS 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1268640"/>
            <a:ext cx="836280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3200" spc="-1" strike="noStrike">
                <a:solidFill>
                  <a:srgbClr val="000000"/>
                </a:solidFill>
                <a:latin typeface="Lucida Sans Unicode"/>
              </a:rPr>
              <a:t>Estimar tasas de cambio para diferentes escenarios de cambio climático en la Antártica que permitan pronosticar efectos a escala local en la zona costera y el litoral Ecuatoriano de una forma más precisa que las estimaciones derivadas de modelos globales y estimaciones de escala regional</a:t>
            </a:r>
            <a:r>
              <a:rPr b="0" lang="es-EC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s-EC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 GENERAL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964000" cy="58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Realizar una recopilación de antecedentes relevantes y síntesis de datos e información útiles para estudiar las relaciones entre la Antártica y el Ecuador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Registro y comparación de los cambios de la biodiversidad en la flora y fauna presentes en el entorno de la base General Pedro Vicente Maldonado, entre los años 2012 y 2014.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3. Realizar Hindcasting de los datos de la base General Pedro Vicente Maldonado de Ecuador, en base a los datos publicados y de acceso libre de la Base Capital Arturo Prat de Chile, de  manera de contar con series de tiempo de tiempo de 25 años de extensión (1985 a la fecha)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S ESPECÍF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640" y="1196640"/>
            <a:ext cx="850680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Estimar las anomalías de patrones de oleaje en El Ecuador, que puedan ser explicados por efectos del calentamiento global en la Antártica y los mares australes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Estimar las anomalías de cambios en el nivel medio del mar en Ecuador, que puedan ser explicados por el derretimiento de los hielos Antártico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S ESPECÍF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MAREJAD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CONSTRUCCIONES DE PUERTOS, URBANIZACIONES Y MUELLE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INUNDACIONE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TSUNAMI – POTENCIA Y DIRECCION DE IMPACTOS DE LA OLA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FENOMENO DEL NIÑO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NIVEL DEL MAR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TEMPERATURA GLOBAL Y LOCAL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EJM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SAN MATEO- MUELLE – BAHIA-CORRIENTE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JARAMIJO – MANTA- RIO MANTA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VINCULACION DE OBJETIV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-459360"/>
            <a:ext cx="9143640" cy="7704360"/>
          </a:xfrm>
          <a:prstGeom prst="rect">
            <a:avLst/>
          </a:prstGeom>
          <a:ln w="9525">
            <a:noFill/>
          </a:ln>
        </p:spPr>
      </p:pic>
      <p:cxnSp>
        <p:nvCxnSpPr>
          <p:cNvPr id="139" name="5 Conector recto de flecha"/>
          <p:cNvCxnSpPr/>
          <p:nvPr/>
        </p:nvCxnSpPr>
        <p:spPr>
          <a:xfrm flipH="1" flipV="1">
            <a:off x="755280" y="4077000"/>
            <a:ext cx="432360" cy="36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0" name="6 Conector recto de flecha"/>
          <p:cNvCxnSpPr/>
          <p:nvPr/>
        </p:nvCxnSpPr>
        <p:spPr>
          <a:xfrm flipH="1" flipV="1">
            <a:off x="2699640" y="3429000"/>
            <a:ext cx="144360" cy="57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1" name="10 Conector recto de flecha"/>
          <p:cNvCxnSpPr/>
          <p:nvPr/>
        </p:nvCxnSpPr>
        <p:spPr>
          <a:xfrm flipH="1" flipV="1">
            <a:off x="755280" y="4005000"/>
            <a:ext cx="432360" cy="36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2" name="11 Conector recto de flecha"/>
          <p:cNvCxnSpPr/>
          <p:nvPr/>
        </p:nvCxnSpPr>
        <p:spPr>
          <a:xfrm flipH="1" flipV="1">
            <a:off x="2339640" y="3861000"/>
            <a:ext cx="504360" cy="72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143" name="12 Conector recto de flecha"/>
          <p:cNvCxnSpPr/>
          <p:nvPr/>
        </p:nvCxnSpPr>
        <p:spPr>
          <a:xfrm flipV="1">
            <a:off x="1187280" y="3861000"/>
            <a:ext cx="72360" cy="432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144" name="22 Conector recto de flecha"/>
          <p:cNvCxnSpPr/>
          <p:nvPr/>
        </p:nvCxnSpPr>
        <p:spPr>
          <a:xfrm flipV="1">
            <a:off x="0" y="1628640"/>
            <a:ext cx="2988000" cy="4320720"/>
          </a:xfrm>
          <a:prstGeom prst="straightConnector1">
            <a:avLst/>
          </a:prstGeom>
          <a:ln>
            <a:solidFill>
              <a:srgbClr val="2da2bf"/>
            </a:solidFill>
            <a:round/>
            <a:tailEnd len="med" type="arrow" w="med"/>
          </a:ln>
        </p:spPr>
      </p:cxnSp>
      <p:cxnSp>
        <p:nvCxnSpPr>
          <p:cNvPr id="145" name="25 Conector recto de flecha"/>
          <p:cNvCxnSpPr/>
          <p:nvPr/>
        </p:nvCxnSpPr>
        <p:spPr>
          <a:xfrm flipV="1">
            <a:off x="-396360" y="1268640"/>
            <a:ext cx="2987640" cy="4320720"/>
          </a:xfrm>
          <a:prstGeom prst="straightConnector1">
            <a:avLst/>
          </a:prstGeom>
          <a:ln>
            <a:solidFill>
              <a:srgbClr val="2da2bf"/>
            </a:solidFill>
            <a:round/>
            <a:tailEnd len="med" type="arrow" w="med"/>
          </a:ln>
        </p:spPr>
      </p:cxnSp>
      <p:sp>
        <p:nvSpPr>
          <p:cNvPr id="146" name="31 Forma libre"/>
          <p:cNvSpPr/>
          <p:nvPr/>
        </p:nvSpPr>
        <p:spPr>
          <a:xfrm>
            <a:off x="1691640" y="1845000"/>
            <a:ext cx="2444400" cy="1872000"/>
          </a:xfrm>
          <a:custGeom>
            <a:avLst/>
            <a:gdLst>
              <a:gd name="textAreaLeft" fmla="*/ 0 w 2444400"/>
              <a:gd name="textAreaRight" fmla="*/ 2444760 w 2444400"/>
              <a:gd name="textAreaTop" fmla="*/ 0 h 1872000"/>
              <a:gd name="textAreaBottom" fmla="*/ 1872360 h 1872000"/>
            </a:gdLst>
            <a:ahLst/>
            <a:rect l="textAreaLeft" t="textAreaTop" r="textAreaRight" b="textAreaBottom"/>
            <a:pathLst>
              <a:path w="1741714" h="2309512">
                <a:moveTo>
                  <a:pt x="0" y="1046769"/>
                </a:moveTo>
                <a:cubicBezTo>
                  <a:pt x="19352" y="1027417"/>
                  <a:pt x="37714" y="1007020"/>
                  <a:pt x="58057" y="988712"/>
                </a:cubicBezTo>
                <a:cubicBezTo>
                  <a:pt x="86144" y="963434"/>
                  <a:pt x="118424" y="942860"/>
                  <a:pt x="145143" y="916141"/>
                </a:cubicBezTo>
                <a:cubicBezTo>
                  <a:pt x="162248" y="899036"/>
                  <a:pt x="171581" y="875188"/>
                  <a:pt x="188686" y="858083"/>
                </a:cubicBezTo>
                <a:cubicBezTo>
                  <a:pt x="205791" y="840978"/>
                  <a:pt x="229638" y="831646"/>
                  <a:pt x="246743" y="814541"/>
                </a:cubicBezTo>
                <a:cubicBezTo>
                  <a:pt x="268648" y="792636"/>
                  <a:pt x="284400" y="765283"/>
                  <a:pt x="304800" y="741969"/>
                </a:cubicBezTo>
                <a:cubicBezTo>
                  <a:pt x="318317" y="726521"/>
                  <a:pt x="336027" y="714847"/>
                  <a:pt x="348343" y="698426"/>
                </a:cubicBezTo>
                <a:cubicBezTo>
                  <a:pt x="424569" y="596792"/>
                  <a:pt x="361599" y="627117"/>
                  <a:pt x="478972" y="509741"/>
                </a:cubicBezTo>
                <a:cubicBezTo>
                  <a:pt x="493486" y="495227"/>
                  <a:pt x="510583" y="482901"/>
                  <a:pt x="522514" y="466198"/>
                </a:cubicBezTo>
                <a:cubicBezTo>
                  <a:pt x="587021" y="375888"/>
                  <a:pt x="506389" y="430718"/>
                  <a:pt x="609600" y="379112"/>
                </a:cubicBezTo>
                <a:cubicBezTo>
                  <a:pt x="662469" y="273377"/>
                  <a:pt x="608657" y="365700"/>
                  <a:pt x="696686" y="262998"/>
                </a:cubicBezTo>
                <a:cubicBezTo>
                  <a:pt x="708038" y="249754"/>
                  <a:pt x="713379" y="231790"/>
                  <a:pt x="725714" y="219455"/>
                </a:cubicBezTo>
                <a:cubicBezTo>
                  <a:pt x="752134" y="193035"/>
                  <a:pt x="849525" y="134447"/>
                  <a:pt x="870857" y="117855"/>
                </a:cubicBezTo>
                <a:cubicBezTo>
                  <a:pt x="887060" y="105253"/>
                  <a:pt x="898631" y="87453"/>
                  <a:pt x="914400" y="74312"/>
                </a:cubicBezTo>
                <a:cubicBezTo>
                  <a:pt x="927801" y="63145"/>
                  <a:pt x="941841" y="51992"/>
                  <a:pt x="957943" y="45283"/>
                </a:cubicBezTo>
                <a:cubicBezTo>
                  <a:pt x="1000311" y="27630"/>
                  <a:pt x="1088572" y="1741"/>
                  <a:pt x="1088572" y="1741"/>
                </a:cubicBezTo>
                <a:cubicBezTo>
                  <a:pt x="1094595" y="2204"/>
                  <a:pt x="1265415" y="0"/>
                  <a:pt x="1320800" y="30769"/>
                </a:cubicBezTo>
                <a:cubicBezTo>
                  <a:pt x="1351298" y="47712"/>
                  <a:pt x="1378452" y="70095"/>
                  <a:pt x="1407886" y="88826"/>
                </a:cubicBezTo>
                <a:cubicBezTo>
                  <a:pt x="1431686" y="103972"/>
                  <a:pt x="1480457" y="132369"/>
                  <a:pt x="1480457" y="132369"/>
                </a:cubicBezTo>
                <a:cubicBezTo>
                  <a:pt x="1584496" y="288426"/>
                  <a:pt x="1403285" y="22779"/>
                  <a:pt x="1567543" y="233969"/>
                </a:cubicBezTo>
                <a:cubicBezTo>
                  <a:pt x="1584863" y="256237"/>
                  <a:pt x="1598470" y="281308"/>
                  <a:pt x="1611086" y="306541"/>
                </a:cubicBezTo>
                <a:cubicBezTo>
                  <a:pt x="1642816" y="370002"/>
                  <a:pt x="1642048" y="398461"/>
                  <a:pt x="1669143" y="466198"/>
                </a:cubicBezTo>
                <a:lnTo>
                  <a:pt x="1698172" y="538769"/>
                </a:lnTo>
                <a:cubicBezTo>
                  <a:pt x="1706350" y="579658"/>
                  <a:pt x="1723074" y="659226"/>
                  <a:pt x="1727200" y="698426"/>
                </a:cubicBezTo>
                <a:cubicBezTo>
                  <a:pt x="1733804" y="761161"/>
                  <a:pt x="1736876" y="824217"/>
                  <a:pt x="1741714" y="887112"/>
                </a:cubicBezTo>
                <a:cubicBezTo>
                  <a:pt x="1736876" y="974198"/>
                  <a:pt x="1734443" y="1061450"/>
                  <a:pt x="1727200" y="1148369"/>
                </a:cubicBezTo>
                <a:cubicBezTo>
                  <a:pt x="1724756" y="1177696"/>
                  <a:pt x="1719070" y="1206727"/>
                  <a:pt x="1712686" y="1235455"/>
                </a:cubicBezTo>
                <a:cubicBezTo>
                  <a:pt x="1709367" y="1250390"/>
                  <a:pt x="1702375" y="1264287"/>
                  <a:pt x="1698172" y="1278998"/>
                </a:cubicBezTo>
                <a:cubicBezTo>
                  <a:pt x="1692692" y="1298178"/>
                  <a:pt x="1687984" y="1317582"/>
                  <a:pt x="1683657" y="1337055"/>
                </a:cubicBezTo>
                <a:cubicBezTo>
                  <a:pt x="1678305" y="1361137"/>
                  <a:pt x="1675126" y="1385693"/>
                  <a:pt x="1669143" y="1409626"/>
                </a:cubicBezTo>
                <a:cubicBezTo>
                  <a:pt x="1655527" y="1464091"/>
                  <a:pt x="1650525" y="1453067"/>
                  <a:pt x="1625600" y="1511226"/>
                </a:cubicBezTo>
                <a:cubicBezTo>
                  <a:pt x="1589544" y="1595356"/>
                  <a:pt x="1637845" y="1514631"/>
                  <a:pt x="1582057" y="1598312"/>
                </a:cubicBezTo>
                <a:cubicBezTo>
                  <a:pt x="1561507" y="1659963"/>
                  <a:pt x="1552753" y="1693068"/>
                  <a:pt x="1509486" y="1757969"/>
                </a:cubicBezTo>
                <a:cubicBezTo>
                  <a:pt x="1490134" y="1786998"/>
                  <a:pt x="1464386" y="1812662"/>
                  <a:pt x="1451429" y="1845055"/>
                </a:cubicBezTo>
                <a:cubicBezTo>
                  <a:pt x="1437570" y="1879702"/>
                  <a:pt x="1422357" y="1932183"/>
                  <a:pt x="1393372" y="1961169"/>
                </a:cubicBezTo>
                <a:cubicBezTo>
                  <a:pt x="1381037" y="1973504"/>
                  <a:pt x="1364343" y="1980522"/>
                  <a:pt x="1349829" y="1990198"/>
                </a:cubicBezTo>
                <a:cubicBezTo>
                  <a:pt x="1321285" y="2033013"/>
                  <a:pt x="1319167" y="2042359"/>
                  <a:pt x="1277257" y="2077283"/>
                </a:cubicBezTo>
                <a:cubicBezTo>
                  <a:pt x="1263856" y="2088450"/>
                  <a:pt x="1246752" y="2094723"/>
                  <a:pt x="1233714" y="2106312"/>
                </a:cubicBezTo>
                <a:cubicBezTo>
                  <a:pt x="1116230" y="2210743"/>
                  <a:pt x="1192872" y="2177984"/>
                  <a:pt x="1103086" y="2207912"/>
                </a:cubicBezTo>
                <a:cubicBezTo>
                  <a:pt x="993773" y="2280788"/>
                  <a:pt x="1132696" y="2195223"/>
                  <a:pt x="1001486" y="2251455"/>
                </a:cubicBezTo>
                <a:cubicBezTo>
                  <a:pt x="985452" y="2258326"/>
                  <a:pt x="973545" y="2272682"/>
                  <a:pt x="957943" y="2280483"/>
                </a:cubicBezTo>
                <a:cubicBezTo>
                  <a:pt x="928185" y="2295362"/>
                  <a:pt x="869438" y="2303990"/>
                  <a:pt x="841829" y="2309512"/>
                </a:cubicBezTo>
                <a:cubicBezTo>
                  <a:pt x="774096" y="2304674"/>
                  <a:pt x="706011" y="2303421"/>
                  <a:pt x="638629" y="2294998"/>
                </a:cubicBezTo>
                <a:cubicBezTo>
                  <a:pt x="589671" y="2288878"/>
                  <a:pt x="542154" y="2274080"/>
                  <a:pt x="493486" y="2265969"/>
                </a:cubicBezTo>
                <a:cubicBezTo>
                  <a:pt x="464457" y="2261131"/>
                  <a:pt x="435807" y="2252586"/>
                  <a:pt x="406400" y="2251455"/>
                </a:cubicBezTo>
                <a:cubicBezTo>
                  <a:pt x="309709" y="2247736"/>
                  <a:pt x="212876" y="2251455"/>
                  <a:pt x="116114" y="2251455"/>
                </a:cubicBezTo>
              </a:path>
            </a:pathLst>
          </a:cu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32 Forma libre"/>
          <p:cNvSpPr/>
          <p:nvPr/>
        </p:nvSpPr>
        <p:spPr>
          <a:xfrm>
            <a:off x="1907640" y="-531360"/>
            <a:ext cx="1872000" cy="2952000"/>
          </a:xfrm>
          <a:custGeom>
            <a:avLst/>
            <a:gdLst>
              <a:gd name="textAreaLeft" fmla="*/ 0 w 1872000"/>
              <a:gd name="textAreaRight" fmla="*/ 1872360 w 1872000"/>
              <a:gd name="textAreaTop" fmla="*/ 0 h 2952000"/>
              <a:gd name="textAreaBottom" fmla="*/ 2952360 h 2952000"/>
            </a:gdLst>
            <a:ahLst/>
            <a:rect l="textAreaLeft" t="textAreaTop" r="textAreaRight" b="textAreaBottom"/>
            <a:pathLst>
              <a:path w="1571254" h="1698171">
                <a:moveTo>
                  <a:pt x="0" y="1698171"/>
                </a:moveTo>
                <a:cubicBezTo>
                  <a:pt x="9676" y="1683657"/>
                  <a:pt x="17862" y="1668029"/>
                  <a:pt x="29029" y="1654628"/>
                </a:cubicBezTo>
                <a:cubicBezTo>
                  <a:pt x="58305" y="1619498"/>
                  <a:pt x="93123" y="1593328"/>
                  <a:pt x="130629" y="1567543"/>
                </a:cubicBezTo>
                <a:cubicBezTo>
                  <a:pt x="188127" y="1528013"/>
                  <a:pt x="246743" y="1490133"/>
                  <a:pt x="304800" y="1451428"/>
                </a:cubicBezTo>
                <a:lnTo>
                  <a:pt x="391886" y="1393371"/>
                </a:lnTo>
                <a:cubicBezTo>
                  <a:pt x="406400" y="1383695"/>
                  <a:pt x="419827" y="1372144"/>
                  <a:pt x="435429" y="1364343"/>
                </a:cubicBezTo>
                <a:cubicBezTo>
                  <a:pt x="454781" y="1354667"/>
                  <a:pt x="475138" y="1346781"/>
                  <a:pt x="493486" y="1335314"/>
                </a:cubicBezTo>
                <a:cubicBezTo>
                  <a:pt x="564956" y="1290645"/>
                  <a:pt x="541477" y="1285790"/>
                  <a:pt x="624115" y="1248228"/>
                </a:cubicBezTo>
                <a:cubicBezTo>
                  <a:pt x="651971" y="1235566"/>
                  <a:pt x="682172" y="1228876"/>
                  <a:pt x="711200" y="1219200"/>
                </a:cubicBezTo>
                <a:cubicBezTo>
                  <a:pt x="847051" y="1117312"/>
                  <a:pt x="779873" y="1141602"/>
                  <a:pt x="899886" y="1117600"/>
                </a:cubicBezTo>
                <a:cubicBezTo>
                  <a:pt x="1003570" y="1048478"/>
                  <a:pt x="953126" y="1068005"/>
                  <a:pt x="1045029" y="1045028"/>
                </a:cubicBezTo>
                <a:cubicBezTo>
                  <a:pt x="1121827" y="993830"/>
                  <a:pt x="1169515" y="964085"/>
                  <a:pt x="1248229" y="885371"/>
                </a:cubicBezTo>
                <a:cubicBezTo>
                  <a:pt x="1267581" y="866019"/>
                  <a:pt x="1288475" y="848094"/>
                  <a:pt x="1306286" y="827314"/>
                </a:cubicBezTo>
                <a:cubicBezTo>
                  <a:pt x="1317639" y="814069"/>
                  <a:pt x="1324148" y="797172"/>
                  <a:pt x="1335315" y="783771"/>
                </a:cubicBezTo>
                <a:cubicBezTo>
                  <a:pt x="1348455" y="768002"/>
                  <a:pt x="1366255" y="756430"/>
                  <a:pt x="1378857" y="740228"/>
                </a:cubicBezTo>
                <a:cubicBezTo>
                  <a:pt x="1400276" y="712689"/>
                  <a:pt x="1436915" y="653143"/>
                  <a:pt x="1436915" y="653143"/>
                </a:cubicBezTo>
                <a:cubicBezTo>
                  <a:pt x="1446591" y="624114"/>
                  <a:pt x="1458522" y="595742"/>
                  <a:pt x="1465943" y="566057"/>
                </a:cubicBezTo>
                <a:lnTo>
                  <a:pt x="1494972" y="449943"/>
                </a:lnTo>
                <a:cubicBezTo>
                  <a:pt x="1499810" y="411238"/>
                  <a:pt x="1500715" y="371835"/>
                  <a:pt x="1509486" y="333828"/>
                </a:cubicBezTo>
                <a:cubicBezTo>
                  <a:pt x="1515344" y="308441"/>
                  <a:pt x="1531028" y="286212"/>
                  <a:pt x="1538515" y="261257"/>
                </a:cubicBezTo>
                <a:cubicBezTo>
                  <a:pt x="1545604" y="237628"/>
                  <a:pt x="1547046" y="212618"/>
                  <a:pt x="1553029" y="188685"/>
                </a:cubicBezTo>
                <a:cubicBezTo>
                  <a:pt x="1556740" y="173843"/>
                  <a:pt x="1566370" y="160397"/>
                  <a:pt x="1567543" y="145143"/>
                </a:cubicBezTo>
                <a:cubicBezTo>
                  <a:pt x="1571254" y="96905"/>
                  <a:pt x="1567543" y="48381"/>
                  <a:pt x="1567543" y="0"/>
                </a:cubicBezTo>
              </a:path>
            </a:pathLst>
          </a:cu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48" name="33 Conector recto de flecha"/>
          <p:cNvCxnSpPr/>
          <p:nvPr/>
        </p:nvCxnSpPr>
        <p:spPr>
          <a:xfrm flipV="1">
            <a:off x="1979640" y="4149000"/>
            <a:ext cx="360" cy="136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9" name="34 Conector recto de flecha"/>
          <p:cNvCxnSpPr/>
          <p:nvPr/>
        </p:nvCxnSpPr>
        <p:spPr>
          <a:xfrm flipV="1">
            <a:off x="1403640" y="4221000"/>
            <a:ext cx="72360" cy="100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0" name="35 Conector recto de flecha"/>
          <p:cNvCxnSpPr/>
          <p:nvPr/>
        </p:nvCxnSpPr>
        <p:spPr>
          <a:xfrm flipV="1">
            <a:off x="1763640" y="4221000"/>
            <a:ext cx="360" cy="129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1" name="36 Conector recto de flecha"/>
          <p:cNvCxnSpPr/>
          <p:nvPr/>
        </p:nvCxnSpPr>
        <p:spPr>
          <a:xfrm flipV="1">
            <a:off x="2411640" y="4221000"/>
            <a:ext cx="72360" cy="1224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2" name="37 Conector recto de flecha"/>
          <p:cNvCxnSpPr/>
          <p:nvPr/>
        </p:nvCxnSpPr>
        <p:spPr>
          <a:xfrm flipV="1">
            <a:off x="2195640" y="4149000"/>
            <a:ext cx="360" cy="136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53" name="48 Forma libre"/>
          <p:cNvSpPr/>
          <p:nvPr/>
        </p:nvSpPr>
        <p:spPr>
          <a:xfrm>
            <a:off x="467640" y="4659120"/>
            <a:ext cx="2664000" cy="219852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2198520"/>
              <a:gd name="textAreaBottom" fmla="*/ 2198880 h 2198520"/>
            </a:gdLst>
            <a:ahLst/>
            <a:rect l="textAreaLeft" t="textAreaTop" r="textAreaRight" b="textAreaBottom"/>
            <a:pathLst>
              <a:path w="2917371" h="1915885">
                <a:moveTo>
                  <a:pt x="0" y="711200"/>
                </a:moveTo>
                <a:cubicBezTo>
                  <a:pt x="14514" y="682171"/>
                  <a:pt x="26119" y="651495"/>
                  <a:pt x="43543" y="624114"/>
                </a:cubicBezTo>
                <a:cubicBezTo>
                  <a:pt x="121270" y="501971"/>
                  <a:pt x="255477" y="434559"/>
                  <a:pt x="377371" y="362857"/>
                </a:cubicBezTo>
                <a:cubicBezTo>
                  <a:pt x="459619" y="314476"/>
                  <a:pt x="535879" y="254046"/>
                  <a:pt x="624114" y="217714"/>
                </a:cubicBezTo>
                <a:cubicBezTo>
                  <a:pt x="783982" y="151886"/>
                  <a:pt x="948067" y="91964"/>
                  <a:pt x="1117600" y="58057"/>
                </a:cubicBezTo>
                <a:cubicBezTo>
                  <a:pt x="1301864" y="21204"/>
                  <a:pt x="1214877" y="40994"/>
                  <a:pt x="1378857" y="0"/>
                </a:cubicBezTo>
                <a:cubicBezTo>
                  <a:pt x="1470802" y="3998"/>
                  <a:pt x="1700520" y="4975"/>
                  <a:pt x="1828800" y="29028"/>
                </a:cubicBezTo>
                <a:cubicBezTo>
                  <a:pt x="1880946" y="38806"/>
                  <a:pt x="2049730" y="86478"/>
                  <a:pt x="2090057" y="101600"/>
                </a:cubicBezTo>
                <a:cubicBezTo>
                  <a:pt x="2159057" y="127475"/>
                  <a:pt x="2231942" y="147808"/>
                  <a:pt x="2293257" y="188685"/>
                </a:cubicBezTo>
                <a:cubicBezTo>
                  <a:pt x="2405802" y="263716"/>
                  <a:pt x="2347245" y="235710"/>
                  <a:pt x="2467428" y="275771"/>
                </a:cubicBezTo>
                <a:cubicBezTo>
                  <a:pt x="2491619" y="295123"/>
                  <a:pt x="2513436" y="317889"/>
                  <a:pt x="2540000" y="333828"/>
                </a:cubicBezTo>
                <a:cubicBezTo>
                  <a:pt x="2586383" y="361658"/>
                  <a:pt x="2646894" y="368151"/>
                  <a:pt x="2685143" y="406400"/>
                </a:cubicBezTo>
                <a:cubicBezTo>
                  <a:pt x="2835719" y="556976"/>
                  <a:pt x="2784089" y="484225"/>
                  <a:pt x="2859314" y="609600"/>
                </a:cubicBezTo>
                <a:cubicBezTo>
                  <a:pt x="2904687" y="791094"/>
                  <a:pt x="2846698" y="565444"/>
                  <a:pt x="2888343" y="711200"/>
                </a:cubicBezTo>
                <a:cubicBezTo>
                  <a:pt x="2893823" y="730380"/>
                  <a:pt x="2898019" y="749905"/>
                  <a:pt x="2902857" y="769257"/>
                </a:cubicBezTo>
                <a:cubicBezTo>
                  <a:pt x="2907695" y="812800"/>
                  <a:pt x="2917371" y="856074"/>
                  <a:pt x="2917371" y="899885"/>
                </a:cubicBezTo>
                <a:cubicBezTo>
                  <a:pt x="2917371" y="913878"/>
                  <a:pt x="2895565" y="1076603"/>
                  <a:pt x="2888343" y="1103085"/>
                </a:cubicBezTo>
                <a:cubicBezTo>
                  <a:pt x="2881488" y="1128221"/>
                  <a:pt x="2868462" y="1151262"/>
                  <a:pt x="2859314" y="1175657"/>
                </a:cubicBezTo>
                <a:cubicBezTo>
                  <a:pt x="2846647" y="1209436"/>
                  <a:pt x="2833307" y="1263714"/>
                  <a:pt x="2815771" y="1291771"/>
                </a:cubicBezTo>
                <a:cubicBezTo>
                  <a:pt x="2804892" y="1309177"/>
                  <a:pt x="2786742" y="1320800"/>
                  <a:pt x="2772228" y="1335314"/>
                </a:cubicBezTo>
                <a:cubicBezTo>
                  <a:pt x="2767390" y="1359504"/>
                  <a:pt x="2768746" y="1385820"/>
                  <a:pt x="2757714" y="1407885"/>
                </a:cubicBezTo>
                <a:cubicBezTo>
                  <a:pt x="2748534" y="1426244"/>
                  <a:pt x="2727688" y="1435980"/>
                  <a:pt x="2714171" y="1451428"/>
                </a:cubicBezTo>
                <a:cubicBezTo>
                  <a:pt x="2693771" y="1474742"/>
                  <a:pt x="2674701" y="1499217"/>
                  <a:pt x="2656114" y="1524000"/>
                </a:cubicBezTo>
                <a:cubicBezTo>
                  <a:pt x="2645648" y="1537955"/>
                  <a:pt x="2639993" y="1555809"/>
                  <a:pt x="2627086" y="1567543"/>
                </a:cubicBezTo>
                <a:cubicBezTo>
                  <a:pt x="2589733" y="1601500"/>
                  <a:pt x="2465945" y="1694872"/>
                  <a:pt x="2409371" y="1727200"/>
                </a:cubicBezTo>
                <a:cubicBezTo>
                  <a:pt x="2375504" y="1746552"/>
                  <a:pt x="2341218" y="1765189"/>
                  <a:pt x="2307771" y="1785257"/>
                </a:cubicBezTo>
                <a:cubicBezTo>
                  <a:pt x="2292813" y="1794232"/>
                  <a:pt x="2279830" y="1806484"/>
                  <a:pt x="2264228" y="1814285"/>
                </a:cubicBezTo>
                <a:cubicBezTo>
                  <a:pt x="2191465" y="1850666"/>
                  <a:pt x="2202899" y="1837038"/>
                  <a:pt x="2133600" y="1857828"/>
                </a:cubicBezTo>
                <a:cubicBezTo>
                  <a:pt x="2059071" y="1880187"/>
                  <a:pt x="2043188" y="1888188"/>
                  <a:pt x="1973943" y="1915885"/>
                </a:cubicBezTo>
                <a:cubicBezTo>
                  <a:pt x="1915886" y="1911047"/>
                  <a:pt x="1857709" y="1907470"/>
                  <a:pt x="1799771" y="1901371"/>
                </a:cubicBezTo>
                <a:cubicBezTo>
                  <a:pt x="1709022" y="1891819"/>
                  <a:pt x="1645624" y="1876347"/>
                  <a:pt x="1553028" y="1857828"/>
                </a:cubicBezTo>
                <a:cubicBezTo>
                  <a:pt x="1524270" y="1852076"/>
                  <a:pt x="1453145" y="1839048"/>
                  <a:pt x="1422400" y="1828800"/>
                </a:cubicBezTo>
                <a:cubicBezTo>
                  <a:pt x="1397683" y="1820561"/>
                  <a:pt x="1374223" y="1808919"/>
                  <a:pt x="1349828" y="1799771"/>
                </a:cubicBezTo>
                <a:cubicBezTo>
                  <a:pt x="1309716" y="1784729"/>
                  <a:pt x="1272556" y="1777807"/>
                  <a:pt x="1233714" y="1756228"/>
                </a:cubicBezTo>
                <a:cubicBezTo>
                  <a:pt x="1212568" y="1744480"/>
                  <a:pt x="1196552" y="1724874"/>
                  <a:pt x="1175657" y="1712685"/>
                </a:cubicBezTo>
                <a:cubicBezTo>
                  <a:pt x="1075190" y="1654079"/>
                  <a:pt x="1086087" y="1661264"/>
                  <a:pt x="1001486" y="1640114"/>
                </a:cubicBezTo>
                <a:cubicBezTo>
                  <a:pt x="982133" y="1625600"/>
                  <a:pt x="963556" y="1609990"/>
                  <a:pt x="943428" y="1596571"/>
                </a:cubicBezTo>
                <a:cubicBezTo>
                  <a:pt x="919955" y="1580923"/>
                  <a:pt x="892886" y="1570651"/>
                  <a:pt x="870857" y="1553028"/>
                </a:cubicBezTo>
                <a:cubicBezTo>
                  <a:pt x="844143" y="1531657"/>
                  <a:pt x="823855" y="1503185"/>
                  <a:pt x="798286" y="1480457"/>
                </a:cubicBezTo>
                <a:cubicBezTo>
                  <a:pt x="641446" y="1341044"/>
                  <a:pt x="821524" y="1511917"/>
                  <a:pt x="696686" y="1407885"/>
                </a:cubicBezTo>
                <a:cubicBezTo>
                  <a:pt x="554015" y="1288992"/>
                  <a:pt x="738290" y="1434976"/>
                  <a:pt x="624114" y="1320800"/>
                </a:cubicBezTo>
                <a:cubicBezTo>
                  <a:pt x="541434" y="1238120"/>
                  <a:pt x="574734" y="1323639"/>
                  <a:pt x="508000" y="1190171"/>
                </a:cubicBezTo>
                <a:cubicBezTo>
                  <a:pt x="488648" y="1151466"/>
                  <a:pt x="463627" y="1115109"/>
                  <a:pt x="449943" y="1074057"/>
                </a:cubicBezTo>
                <a:cubicBezTo>
                  <a:pt x="440267" y="1045028"/>
                  <a:pt x="437887" y="1012431"/>
                  <a:pt x="420914" y="986971"/>
                </a:cubicBezTo>
                <a:cubicBezTo>
                  <a:pt x="380831" y="926846"/>
                  <a:pt x="393291" y="952013"/>
                  <a:pt x="362857" y="870857"/>
                </a:cubicBezTo>
                <a:cubicBezTo>
                  <a:pt x="348690" y="833080"/>
                  <a:pt x="350144" y="814601"/>
                  <a:pt x="319314" y="783771"/>
                </a:cubicBezTo>
                <a:cubicBezTo>
                  <a:pt x="315893" y="780350"/>
                  <a:pt x="309638" y="783771"/>
                  <a:pt x="304800" y="783771"/>
                </a:cubicBezTo>
              </a:path>
            </a:pathLst>
          </a:custGeom>
          <a:noFill/>
          <a:ln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ón de cambios en la morfología de playa en Esmeraldas y Galápago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Biodiversidad de avifauna y flora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Hindcasting de ol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ACTIVIDADES A REALIZAR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Hindcasting de olas. 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ón de cambios en la morfología de playa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MAS DE 100 FOTOS DESCRIPTIV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441 PUNTOS GP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ONES FISIC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MEDIDAS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RESULTADOS PRELIMINARE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ING. JIMMY CEVALLOS\ANTÁRTIDA 2013 INAE\ANTARTIDA FEBRERO 2013\FOTOS 2013\PINGUINO MAL PARQUEADO\IMG_2795.JPG"/>
          <p:cNvPicPr/>
          <p:nvPr/>
        </p:nvPicPr>
        <p:blipFill>
          <a:blip r:embed="rId1"/>
          <a:stretch/>
        </p:blipFill>
        <p:spPr>
          <a:xfrm>
            <a:off x="0" y="104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9" name="4 Rectángulo"/>
          <p:cNvSpPr/>
          <p:nvPr/>
        </p:nvSpPr>
        <p:spPr>
          <a:xfrm rot="21364200">
            <a:off x="1154520" y="2922480"/>
            <a:ext cx="6301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C" sz="5400" spc="-1" strike="noStrike">
                <a:solidFill>
                  <a:srgbClr val="0070c0"/>
                </a:solidFill>
                <a:latin typeface="Lucida Sans Unicode"/>
              </a:rPr>
              <a:t>MUCHAS GRACI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La península Antártica =  cambio climático = aumento de las temperaturas atmosféricas hasta seis veces superiores al promedio mundial observado en las últimas décadas (Wendt </a:t>
            </a:r>
            <a:r>
              <a:rPr b="0" i="1" lang="es-EC" sz="2700" spc="-1" strike="noStrike">
                <a:solidFill>
                  <a:srgbClr val="000000"/>
                </a:solidFill>
                <a:latin typeface="Lucida Sans Unicode"/>
              </a:rPr>
              <a:t>et al </a:t>
            </a: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2010).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Esto ha generado alteraciones que no se habían registrado en los últimos 10 mil años, tanto es los glaciares de la región como en sus ecosistemas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ANTECEDENTES Y JUSTIFICACIÓN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INFLUENCIA DEL SUR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83640" y="1124640"/>
            <a:ext cx="7776360" cy="554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Elipse"/>
          <p:cNvSpPr/>
          <p:nvPr/>
        </p:nvSpPr>
        <p:spPr>
          <a:xfrm>
            <a:off x="2771640" y="2061000"/>
            <a:ext cx="1007640" cy="791640"/>
          </a:xfrm>
          <a:prstGeom prst="ellipse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68360" cy="7245000"/>
          </a:xfrm>
          <a:prstGeom prst="rect">
            <a:avLst/>
          </a:prstGeom>
          <a:ln w="9525">
            <a:noFill/>
          </a:ln>
        </p:spPr>
      </p:pic>
      <p:cxnSp>
        <p:nvCxnSpPr>
          <p:cNvPr id="110" name="8 Conector recto de flecha"/>
          <p:cNvCxnSpPr/>
          <p:nvPr/>
        </p:nvCxnSpPr>
        <p:spPr>
          <a:xfrm flipV="1">
            <a:off x="2843640" y="2060640"/>
            <a:ext cx="720360" cy="72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11" name="11 Arco"/>
          <p:cNvSpPr/>
          <p:nvPr/>
        </p:nvSpPr>
        <p:spPr>
          <a:xfrm>
            <a:off x="1043640" y="404640"/>
            <a:ext cx="2664000" cy="2880000"/>
          </a:xfrm>
          <a:prstGeom prst="arc">
            <a:avLst>
              <a:gd name="adj1" fmla="val 73295"/>
              <a:gd name="adj2" fmla="val 0"/>
            </a:avLst>
          </a:prstGeom>
          <a:noFill/>
          <a:ln>
            <a:solidFill>
              <a:srgbClr val="00206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TONSUPA ESMERALDA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3" name="Picture 2" descr="C:\ING. JIMMY CEVALLOS\ANTÁRTIDA 2013 INAE\ANTARTIDA FEBRERO 2013\FOTOS ESM -GAL\FOTOS GEORREFERENCIADAS ESMERALDAS\IMG_9985.JPG"/>
          <p:cNvPicPr/>
          <p:nvPr/>
        </p:nvPicPr>
        <p:blipFill>
          <a:blip r:embed="rId1"/>
          <a:stretch/>
        </p:blipFill>
        <p:spPr>
          <a:xfrm>
            <a:off x="1907640" y="980640"/>
            <a:ext cx="5040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TONSUPA ESMERALDA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5" name="Picture 2" descr="C:\ING. JIMMY CEVALLOS\ANTÁRTIDA 2013 INAE\ANTARTIDA FEBRERO 2013\FOTOS ESM -GAL\FOTOS GEORREFERENCIADAS ESMERALDAS\IMG_0090.JPG"/>
          <p:cNvPicPr/>
          <p:nvPr/>
        </p:nvPicPr>
        <p:blipFill>
          <a:blip r:embed="rId1"/>
          <a:stretch/>
        </p:blipFill>
        <p:spPr>
          <a:xfrm>
            <a:off x="251640" y="908640"/>
            <a:ext cx="8892000" cy="59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760" y="0"/>
            <a:ext cx="9270360" cy="7029000"/>
          </a:xfrm>
          <a:prstGeom prst="rect">
            <a:avLst/>
          </a:prstGeom>
          <a:ln w="9525">
            <a:noFill/>
          </a:ln>
        </p:spPr>
      </p:pic>
      <p:sp>
        <p:nvSpPr>
          <p:cNvPr id="117" name="6 Elipse"/>
          <p:cNvSpPr/>
          <p:nvPr/>
        </p:nvSpPr>
        <p:spPr>
          <a:xfrm>
            <a:off x="1547640" y="450900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18" name="7 Elipse"/>
          <p:cNvSpPr/>
          <p:nvPr/>
        </p:nvSpPr>
        <p:spPr>
          <a:xfrm>
            <a:off x="6948360" y="602136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19" name="8 Elipse"/>
          <p:cNvSpPr/>
          <p:nvPr/>
        </p:nvSpPr>
        <p:spPr>
          <a:xfrm>
            <a:off x="4428000" y="580536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20" name="9 Elipse"/>
          <p:cNvSpPr/>
          <p:nvPr/>
        </p:nvSpPr>
        <p:spPr>
          <a:xfrm>
            <a:off x="2699640" y="4365000"/>
            <a:ext cx="359640" cy="215640"/>
          </a:xfrm>
          <a:prstGeom prst="ellipse">
            <a:avLst/>
          </a:prstGeom>
          <a:solidFill>
            <a:srgbClr val="ff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21" name="10 Elipse"/>
          <p:cNvSpPr/>
          <p:nvPr/>
        </p:nvSpPr>
        <p:spPr>
          <a:xfrm flipV="1">
            <a:off x="5076000" y="3284280"/>
            <a:ext cx="647640" cy="431640"/>
          </a:xfrm>
          <a:prstGeom prst="ellipse">
            <a:avLst/>
          </a:prstGeom>
          <a:solidFill>
            <a:srgbClr val="ff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 - FEBRERO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3" name="Picture 2" descr="C:\ING. JIMMY CEVALLOS\ANTÁRTIDA 2013 INAE\ANTARTIDA FEBRERO 2013\FOTOS ESM -GAL\FOTOS GEORREFERENCIADAS GALAPAGOS\IMG_0569.JPG"/>
          <p:cNvPicPr/>
          <p:nvPr/>
        </p:nvPicPr>
        <p:blipFill>
          <a:blip r:embed="rId1"/>
          <a:stretch/>
        </p:blipFill>
        <p:spPr>
          <a:xfrm>
            <a:off x="179640" y="1124640"/>
            <a:ext cx="8712720" cy="573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 INDICADORES BIOLOG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5" name="Picture 2" descr="C:\ING. JIMMY CEVALLOS\ANTÁRTIDA 2013 INAE\ANTARTIDA FEBRERO 2013\FOTOS ESM -GAL\FOTOS GALAPAGOS\fotos todas\IMG_0722.JPG"/>
          <p:cNvPicPr/>
          <p:nvPr/>
        </p:nvPicPr>
        <p:blipFill>
          <a:blip r:embed="rId1"/>
          <a:stretch/>
        </p:blipFill>
        <p:spPr>
          <a:xfrm>
            <a:off x="251640" y="1268640"/>
            <a:ext cx="8712720" cy="53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552</TotalTime>
  <Application>LibreOffice/7.4.7.2$Linux_X86_64 LibreOffice_project/40$Build-2</Application>
  <AppVersion>15.0000</AppVersion>
  <Words>497</Words>
  <Paragraphs>79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6:41:19Z</dcterms:created>
  <dc:creator>JIMMY  CEVALLOS</dc:creator>
  <dc:description/>
  <dc:language>en-US</dc:language>
  <cp:lastModifiedBy>User</cp:lastModifiedBy>
  <dcterms:modified xsi:type="dcterms:W3CDTF">2013-07-24T23:20:54Z</dcterms:modified>
  <cp:revision>66</cp:revision>
  <dc:subject/>
  <dc:title>UNIVERSIDAD LAICA ELOY ALFARO DE MANABI - DPTO. MEDIO AMBIENTE  UNIVERSIDAD DE PLAYA ANCHA  CENTRO DE INVESTIGACION CIENTI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9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19</vt:r8>
  </property>
</Properties>
</file>