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196-9B2F-4D69-A33E-D34CD19E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E80-AC92-4673-93F8-72FD6411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BA2D-F526-4BDE-813D-89E420A6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618-71C1-4279-B10C-BD22C5DA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0EF5-B9A9-45BA-81D6-68624FDB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C088-261A-411B-867B-E138BCB1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26A9-651B-46DE-890D-8963BE91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4AD5-6F94-4522-AF3D-994F8B5B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375E-A3BE-4FD6-81E3-379357CC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83A7-7BE7-41C9-B154-93139954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F56E-4CD0-4D97-80EA-F21969D2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23C-25EA-4190-84D4-36CFCBDE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4EEA-FE7D-43F8-B788-BB7822D9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6AE0-19A2-49C6-A722-8DB9E493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CBBB-6D2D-430E-AA7F-B1394238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7557-F59E-4786-A0E0-B3287E2E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BA05-E167-420E-B632-9D54A492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FC072-2AA7-4989-AA77-4179611F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09349-364D-4C88-AD38-82C70CAE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BE614-383C-4726-ADF1-2C55E832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7E98D-2075-4E88-801E-F0D5014A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0805F-917A-42C6-801C-1D41B190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BAE8-B1EB-4474-94AB-A20F0276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7F282-D95D-4C5A-86BE-0078B991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57D0-F36A-4B31-8552-8EA36F3B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BE57D-BF34-4769-A5F1-637C09A9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8426D-4AA1-4ED1-AC66-0BF01306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5EE6E-0DB3-4160-97E3-20CC7AD0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E51AD-9EF0-49BF-8F14-F7D83B21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96A3B-8126-4AF3-9B75-5E17B96D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F8543-4A6C-4B02-B080-988D8BAA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58216-B281-4CDD-BEF1-87B61619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3DB4B-3BA1-4FF3-BE50-7E0C8BE7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EDE-23E8-4C89-B502-F6B7B798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F2BCF-E6DF-4575-A04E-CA628C30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58940-2E68-45D8-A6B0-4D6C5222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DDB30-81D8-40CC-9B10-2CF0CAE7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F2332-4239-4E01-86E9-6B97AF02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D6236-911C-4662-86A2-945C4C50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89F5A-FB86-45C8-BFB5-93BA378E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54829-3999-4E7E-9878-0BDA8CC8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B05CC-9CE8-44EA-A312-332ED7A5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AC591-6A91-4AF5-85F4-E206096D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0F795-7C0B-493D-88BF-24E60BF0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7D63-6792-4077-B0F3-52F13F05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157D8-6AB6-479A-ABB1-B034EEBE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3B8FE-E1FE-4CEE-9B33-89898788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DBF58-1BC2-42E3-A9B2-C5D414D5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0FAD6-72B4-4C3A-B223-9501E496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FF312-1A05-442B-9E41-04481818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83797-35B6-4113-A63C-3ED14C45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EBC10-8CEB-48C3-9E47-EA6A9E3A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E2094-D059-47E8-ABD6-BFC0039C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34C86-1FC1-4562-8937-F64213B4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663A2-495E-4A09-9C27-76664A08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D675-3376-4057-A6DE-9F1BCA81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11496-97BF-44CF-94CD-8C4D575C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9BDF7-7D07-43DD-B219-AE8AD377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C6128-DFAA-4C42-A4CD-FEEA28C6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ECCB8-AA04-4A45-966E-2EE97E2E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F1B68-B2B3-4B75-88EB-653C0E87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A7309-047E-4472-9CB9-259B3B96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FF564-AEAC-40F0-BA76-79EC7277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F46CB-9484-489D-BA3D-5AF912A5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317F5-05AE-4DBA-8A48-BCAAF598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AF8BB-3506-4F56-8967-BB5144C1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CCC-3DCF-476F-B648-A84FA44D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A2856-53E0-4646-9B57-D8B57779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DE3B4-2288-4419-A2D9-0F89CAC5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97D6B-D95E-4A1E-AD42-A440C531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74AA9-A2EB-48C4-8182-E453A93F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6538B-2E6B-4268-B848-A26E0D75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C6D2A-711C-4A53-A4B9-98E41B1B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FA242-96E2-4C7A-AD8B-1B059779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E064F-DBB0-48BC-91B4-49A73DD4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9AC38-5F7C-4E92-AD32-6D9B64DF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B7DA1-C21C-4F26-87D2-141FEF33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5282-87EF-480F-9A8C-94D0AFB6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7B2F7-8F93-4D39-B117-A19FFF6E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33DA8-097B-473A-9C65-06DAF280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46943-A7B2-4E55-A9E5-58558714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C4A0C-A5E6-461C-9278-ED4436E9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033DA-48C5-4C8B-A0EB-0397BA1D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F62CF-76B4-44BA-AE12-DD6252C9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24B1D-1FEA-444B-94A5-9D1D455A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C265B-4792-487F-8CD9-D4B47A09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AB387-2F69-4205-ACD8-C62C9E59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ED27F-C0CC-4FBB-ABC9-07387290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52B-1428-4BFB-9720-B230D867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D7D61-74F0-44B3-8F87-B32A7376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F4C42-357C-477E-9317-10690A91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83C4F-93AA-4410-9A2A-06CE1FD1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2F5CA-7C17-4D78-8167-AD5A6EC5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446A4-7F56-44FC-8842-A3F1E374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D8E13-B53F-48FE-9C7D-63D6D9D7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5490E-6CAC-4161-8F70-EB5A9A7B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15D2-7260-4BE1-A073-0C429E55916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1619-948E-4C5B-B86F-E1FB357580AA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663C-C72B-4A2B-9AC9-F1D4CEA9E569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1F50-FB8A-4804-B464-5FA2E6974871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68BC-A6F6-4C5D-B7CA-24D9A906A81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0129-6064-4AD1-89DF-B5FE7BBBFFC2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357E-21EB-451E-B28B-B84216854BF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CE25-8336-4136-905C-CB71FEC2DB45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706320" y="981000"/>
            <a:ext cx="821232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Informe de Camp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Proyecto T-06-10.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Tipo de levantamie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lipsoide de referenc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WGS8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staciones de referenc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OLE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324000" y="165240"/>
            <a:ext cx="8369280" cy="12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714240" y="2143080"/>
          <a:ext cx="7786800" cy="1828800"/>
        </p:xfrm>
        <a:graphic>
          <a:graphicData uri="http://schemas.openxmlformats.org/drawingml/2006/table">
            <a:tbl>
              <a:tblPr/>
              <a:tblGrid>
                <a:gridCol w="1214640"/>
                <a:gridCol w="1571400"/>
                <a:gridCol w="1785960"/>
                <a:gridCol w="3214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ÉT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EMPO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APLIC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á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,5 – 2,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ínimo 6 ho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formaciones geológicas, control geodésico, geofísica, grandes líneas de refer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D:\XV_Expedición_Antártica\fotos\Ivan\IVAN SALTOS\25-ENE-2011\P1010368.JPG"/>
          <p:cNvPicPr/>
          <p:nvPr/>
        </p:nvPicPr>
        <p:blipFill>
          <a:blip r:embed="rId2"/>
          <a:stretch/>
        </p:blipFill>
        <p:spPr>
          <a:xfrm>
            <a:off x="1320840" y="1916280"/>
            <a:ext cx="6502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D:\XV_Expedición_Antártica\fotos\Ivan\IVAN SALTOS\25-ENE-2011\P1010371.JPG"/>
          <p:cNvPicPr/>
          <p:nvPr/>
        </p:nvPicPr>
        <p:blipFill>
          <a:blip r:embed="rId2"/>
          <a:stretch/>
        </p:blipFill>
        <p:spPr>
          <a:xfrm>
            <a:off x="1554120" y="148104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D:\XV_Expedición_Antártica\fotos\Ivan\IVAN SALTOS\25-ENE-2011\P1010356.JPG"/>
          <p:cNvPicPr/>
          <p:nvPr/>
        </p:nvPicPr>
        <p:blipFill>
          <a:blip r:embed="rId2"/>
          <a:stretch/>
        </p:blipFill>
        <p:spPr>
          <a:xfrm>
            <a:off x="1643040" y="1231920"/>
            <a:ext cx="569124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M01: de 17 a 23 de enero de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M02: de 20 a 25 de enero de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1285920" y="3357720"/>
          <a:ext cx="6643800" cy="1655640"/>
        </p:xfrm>
        <a:graphic>
          <a:graphicData uri="http://schemas.openxmlformats.org/drawingml/2006/table">
            <a:tbl>
              <a:tblPr/>
              <a:tblGrid>
                <a:gridCol w="1660320"/>
                <a:gridCol w="1662120"/>
                <a:gridCol w="1820880"/>
                <a:gridCol w="15004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S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NÚMERO DE MEDI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JOR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EMPO TOTAL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M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CTU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2:10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M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U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3:40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rocesamiento de datos recopilados en campaña de medició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dacción de resultados y conclusiones en base a datos procesad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ampaña de medición en XVI  Expedició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Se mejora el estado de los clavos de la red no permanente de G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ase de datos de coordenadas de estaciones BM01 y BM0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ejorar la protección de los clavos con material impermeabl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dentificar las Baterías utilizadas en la Estación Maldonad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1 Título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85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A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OC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rmada del Ecuad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ersonal de logística y científicos de XV Expedición Ecuatoriana a la Antártic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21:14:57Z</dcterms:created>
  <dc:creator>Richard Serrano</dc:creator>
  <dc:description/>
  <dc:language>en-US</dc:language>
  <cp:lastModifiedBy>Richard Serrano</cp:lastModifiedBy>
  <dcterms:modified xsi:type="dcterms:W3CDTF">2011-01-26T19:30:23Z</dcterms:modified>
  <cp:revision>6</cp:revision>
  <dc:subject/>
  <dc:title>XV EXPEDICIÓN ECUATORIANA A LA ANTÁRTICA</dc:title>
</cp:coreProperties>
</file>