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F7E6-D8DA-48C1-B810-C354C9FC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D0FF-5202-49EC-BFA8-AEA3A56F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6233-3B1D-49A9-AE2D-2FDE032E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A120-4BC2-409D-A1A1-1C11DEF2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78A5-E51E-46A5-AB7C-C72A1383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61EB-EAD9-461F-B0E7-F623F18C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E025-0F86-4D35-9516-2C33C44C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C8BD-0848-48BC-9E9B-CC81AD49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7E33-1426-4939-A41B-EC2133B5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8376-FDA0-4D91-9D16-9AC2F24C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1090-69CF-4E78-87BF-B9A930E0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0EE2-2400-4BD0-AA29-D148693E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F557-539B-44F7-A6AE-75C7690B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5292-E81F-4E55-A9A7-17807D24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208B-5662-446A-9F0D-F2571EAF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A6F6-1ABB-48D9-8DFB-F9D61D00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36CE-A9D0-4DDE-8D26-1613AC88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6A17A-2D5D-435F-B81A-4129DF66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30A3D-704E-47AB-B11B-16EF084A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92D8E-44AF-4A1B-A455-0515B45F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E9DB2-02E3-4427-84EC-FBD2C57A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F19DF-0709-4182-9D11-D4B18655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F49C-3B7B-490E-8E4C-D487526F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6C355-6CB7-4FCC-AC33-9768A695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06C5D-AA79-4FDD-83DC-A6BC1051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12BBB-96AB-402C-B5B3-A16F0ABA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6D834-D12F-4FD0-A2A4-8CF683CB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11AED-F807-4369-9AC5-33A1E0E3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DC368-D387-4755-83DA-093E2982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2637C-95B8-4E7D-98A9-5F26E931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FE5DA-0378-48BF-8577-E5E419B0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FAF4C-739B-4B55-92E4-FEADA97C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A2BA0-1AE8-4897-8779-59950872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D2C4-918C-4B5A-AC99-F90953B2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4C0FB-6692-4DEF-9912-FE262C70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13821-84AE-4854-A82A-6119616F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1FEFE-9152-4FEF-8837-5C1CD311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DA482-911F-4BF2-9ABD-8185F88D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EB370-09E2-4B8D-B4BE-3BACC08D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ABF0C-3511-47BC-845E-D1C96F28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4C81B-402B-4235-BD02-63668D62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C3C27-C8ED-4545-AB7C-98593816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CCCA2-4816-4FAE-AE9A-EB91446C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5A130-CB93-4003-8B00-2435F935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73DE-E630-485F-8CB6-D36E7B4F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4F206-53F3-4B9F-B10C-1F91078B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F4BB2-9A8A-48A9-9318-617CA165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9F259-41FC-4DE2-A069-921EAC55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82B3B-483E-48A3-95C0-E0E6C916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EACD5-C9D5-4F4F-9C10-06FF8788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2B664-2F54-4F99-82BF-16C9DFF7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9C6BD-2ABB-4038-90F4-D91E022E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64260-CCE6-467D-B0E5-EDB7CDE4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B5066-18DC-439E-AE0D-80D2CFA5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C41C1-C251-4CAF-A550-1D271190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053A-8BA9-4E93-9884-ABC89551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FA5C5-7988-40B3-96CD-A4279620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00496-3E7A-46B9-BA82-8ABD306D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477C6-90B2-4892-BDBE-57771F8B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B6685-686E-4054-81D4-CA5BBE96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B15CE-A478-45BF-9FA7-E8ADD1F2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195EB-B02E-4FF1-B27B-700773B2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6EF9F-713D-4496-8B7F-AED91E70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57E18-A1D4-4317-A22A-9BAFF266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C2CD0-2C62-43A8-9749-32B4FE43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F1C74-A154-4CC1-A27C-67A88C76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A6DE-1A81-4060-9FDD-2A13F158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11E29-3568-470B-A8BA-96EB35D4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198D2-5A2B-402F-B123-0EE1A7E3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CF523-3204-4034-85D4-9FA742E2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5B93A-9821-4743-BE5B-A5619077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4DE4F-FB3F-43F8-9E51-374D1385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B30BD-6B91-4219-AE2C-E6FBB282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A6536-A20A-483A-94ED-7DE4EA6E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2171B-D4EF-4298-8CD5-AD5C7E6E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1C5C6-F95A-41BB-B46B-B1F20048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7323A-EEA2-492E-B2C4-48E01C7F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B82F-ED28-4C12-A5AC-59B74474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55291-440B-45CE-8693-4E872E8A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4CD4C-8FA2-4AB5-A082-E64376A8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83E63-F819-4D56-853E-CF7B0561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5137F-269E-4F63-85E2-7203E755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C7CA3-A59B-43D3-8066-6D4CB9F9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21B14-310F-4E37-BB03-F86C1CA3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D2E9A-B2E5-4121-A6DE-985283D2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36261-2C2F-4EBB-B6F1-85B7031B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BC3C3-3C36-4800-BC45-35D3559E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0E98C-A3E5-4B14-8395-76CDD0A8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E79F-575C-4979-BB4B-46F4B9AA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28C4B-E8A3-4E8F-804A-3D9185B1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11420-6E5E-46A7-98D1-7B950250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8AAC0-72B4-4CF1-A3D2-2180C2BA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BD8B5-045E-468A-8B3E-2527937C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3F186-7D5B-4D06-AB23-76DCD666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DAAE2-3A10-4A70-ABDC-EBDD93F7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470AD-3872-4550-BA95-07742390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E64E-D1ED-455D-8686-E3E75517439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98C3-39CA-4E15-8C0B-F9FD57166D34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4A4B-23A2-4A71-9CA3-75CDA9F3475B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EC93-3C6F-42E7-8DF5-CB5A94CEE3C2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9CFB-BCAB-422E-BC2C-F3DD9DB9422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2B87-3085-4F53-9162-D920D87CD7BA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4AB0-C3C7-47DF-9F17-9035FE33788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403A-269B-40AF-93F0-76816D33ACF0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706320" y="981000"/>
            <a:ext cx="821232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64646"/>
                </a:solidFill>
                <a:latin typeface="Lucida Sans Unicode"/>
              </a:rPr>
              <a:t>Informe de Camp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64646"/>
                </a:solidFill>
                <a:latin typeface="Lucida Sans Unicode"/>
              </a:rPr>
              <a:t>Proyecto T-06-10.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Tipo de levantamiento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lipsoide de referenci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WGS8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staciones de referenci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OLEN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1 Título" descr=""/>
          <p:cNvPicPr/>
          <p:nvPr/>
        </p:nvPicPr>
        <p:blipFill>
          <a:blip r:embed="rId1"/>
          <a:stretch/>
        </p:blipFill>
        <p:spPr>
          <a:xfrm>
            <a:off x="324000" y="165240"/>
            <a:ext cx="8369280" cy="129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"/>
          <p:cNvGraphicFramePr/>
          <p:nvPr/>
        </p:nvGraphicFramePr>
        <p:xfrm>
          <a:off x="714240" y="2143080"/>
          <a:ext cx="7786800" cy="1828800"/>
        </p:xfrm>
        <a:graphic>
          <a:graphicData uri="http://schemas.openxmlformats.org/drawingml/2006/table">
            <a:tbl>
              <a:tblPr/>
              <a:tblGrid>
                <a:gridCol w="1214640"/>
                <a:gridCol w="1571400"/>
                <a:gridCol w="1785960"/>
                <a:gridCol w="3214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MÉT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RECI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IEMPO DE MED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APLIC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státi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,5 – 2,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ínimo 6 ho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formaciones geológicas, control geodésico, geofísica, grandes líneas de referen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D:\XV_Expedición_Antártica\fotos\Ivan\IVAN SALTOS\25-ENE-2011\P1010368.JPG"/>
          <p:cNvPicPr/>
          <p:nvPr/>
        </p:nvPicPr>
        <p:blipFill>
          <a:blip r:embed="rId2"/>
          <a:stretch/>
        </p:blipFill>
        <p:spPr>
          <a:xfrm>
            <a:off x="1320840" y="1916280"/>
            <a:ext cx="6502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D:\XV_Expedición_Antártica\fotos\Ivan\IVAN SALTOS\25-ENE-2011\P1010371.JPG"/>
          <p:cNvPicPr/>
          <p:nvPr/>
        </p:nvPicPr>
        <p:blipFill>
          <a:blip r:embed="rId2"/>
          <a:stretch/>
        </p:blipFill>
        <p:spPr>
          <a:xfrm>
            <a:off x="1554120" y="148104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D:\XV_Expedición_Antártica\fotos\Ivan\IVAN SALTOS\25-ENE-2011\P1010356.JPG"/>
          <p:cNvPicPr/>
          <p:nvPr/>
        </p:nvPicPr>
        <p:blipFill>
          <a:blip r:embed="rId2"/>
          <a:stretch/>
        </p:blipFill>
        <p:spPr>
          <a:xfrm>
            <a:off x="1643040" y="1231920"/>
            <a:ext cx="569124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M01: de 17 a 23 de enero de 2011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M02: de 20 a 25 de enero de 2011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4" name=""/>
          <p:cNvGraphicFramePr/>
          <p:nvPr/>
        </p:nvGraphicFramePr>
        <p:xfrm>
          <a:off x="1285920" y="3357720"/>
          <a:ext cx="6643800" cy="1655640"/>
        </p:xfrm>
        <a:graphic>
          <a:graphicData uri="http://schemas.openxmlformats.org/drawingml/2006/table">
            <a:tbl>
              <a:tblPr/>
              <a:tblGrid>
                <a:gridCol w="1660320"/>
                <a:gridCol w="1662120"/>
                <a:gridCol w="1820880"/>
                <a:gridCol w="15004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S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NÚMERO DE MEDI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JORN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IEMPO TOTAL DE MED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M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CTU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2:10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M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IU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3:40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rocesamiento de datos recopilados en campaña de medició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edacción de resultados y conclusiones en base a datos procesado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ampaña de medición en XVI  Expedició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Se mejora el estado de los clavos de la red no permanente de G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ase de datos de coordenadas de estaciones BM01 y BM0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Mejorar la protección de los clavos con material impermeabl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dentificar las Baterías utilizadas en la Estación Maldonad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1 Título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852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A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OC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rmada del Ecuad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ersonal de logística y científicos de XV Expedición Ecuatoriana a la Antártic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21:14:57Z</dcterms:created>
  <dc:creator>Richard Serrano</dc:creator>
  <dc:description/>
  <dc:language>en-US</dc:language>
  <cp:lastModifiedBy>Richard Serrano</cp:lastModifiedBy>
  <dcterms:modified xsi:type="dcterms:W3CDTF">2011-01-26T19:30:23Z</dcterms:modified>
  <cp:revision>6</cp:revision>
  <dc:subject/>
  <dc:title>XV EXPEDICIÓN ECUATORIANA A LA ANTÁRTICA</dc:title>
</cp:coreProperties>
</file>