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7D0-F026-4E56-B4F4-8AB656D4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1B0-D992-454C-B693-71ECD290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FB0-4997-4D40-9999-65EE1CC3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180-6D3F-427F-AEC4-8C193FE35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A743-AC38-4EF9-A7B8-3FD3322E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522C-7FEC-4C04-9147-B7AAACE1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6FD9-508C-4F27-BA21-D54924F8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5648-8C7F-479C-8051-130EC558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2BD9-1630-491D-9F75-F91D7969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EBDE-3D84-42C0-AE19-E2E24E5D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1F0A-316B-40BA-9216-2BA75B0E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FCD-CF2D-40AE-A13E-314C3AA2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2785-F107-491E-83B6-78D6652D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DFEB-45DD-442B-A1A8-48A14E4C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36D1-FDBD-4D62-BDA5-9D88638F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F61D-CD1F-4DD5-A125-A52CEA69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D058-1D4D-4CA3-8F44-1A02731F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89B4D-B367-4BD9-AE43-17450C7F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DAD8B-A24D-468F-9A19-819385D7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E270E-564D-460E-A649-FCEB689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4426-ED59-43E8-971D-E5A91F6A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B7A57-2734-4050-9B50-7DB91279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55D-CB84-4646-B84B-E2DBE38B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6B43-7849-4BBE-9216-465B14BC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49FA0-C801-407E-B11E-F422C901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686C-F772-4EAA-B0BF-30075671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9682-E8E5-4BF6-9C52-38BE16B2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C6A93-C541-43E7-B6C8-16E3BD0D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3EC6-D12C-4D51-B647-988D1626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8B47A-22C0-4EA0-8F99-AB5D0614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E5C8F-5AFD-4327-981A-96BFBCDA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B9541-E9E2-4B5F-8B9D-3B66DD2F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3862-7889-4942-8B1F-49CD0A78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636-1431-490B-9E43-5E830B35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CA9FC-4422-4460-9745-D1D34B94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DF8D5-9779-4BC6-8C56-3EADBD7B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4817E-919F-4DE0-84EF-1921FAD9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1B228-C510-41CB-8120-7BED3594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21392-D0CE-4DA1-8CBA-6483BB3F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D258-2D05-4E88-B736-D5151EA2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4C942-4E93-4A56-9CE7-44724676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7460C-6286-4EC0-9344-B47FBA5EC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BC50C-0EBB-4947-A5B3-10B1B794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74AD1-9937-4B21-BD81-12A612E9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A05B-95C8-4A41-A3AD-07A4C414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86F7-3567-4071-99DB-A71B85E8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80AAC-92D6-4C84-8BCB-CA97B2B6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73D4C-C8E5-42B2-A761-3823EE11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0BD54-40C1-4110-9F9F-9EBFCD87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C34C8-D4CD-43C4-9C30-C93250D4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ED41E-CA3D-4163-838E-92F8E916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C484B-C697-4BF3-ABEC-2051E0CA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EE06E-4CCF-40CA-A61D-AB92659D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E5654-03A3-43F2-B935-2B6D7595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F81CB-3600-47C8-97CD-5263E4AD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2B1-A9F3-46F6-84C5-6AB84B07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85D3E-03F7-44EF-BB08-E8C61A50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5225A-82B7-48D5-8613-27B4DFC1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B6E29-88D6-41D8-ACE2-5AD09EB1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81DE9-440B-419D-BB71-5216DEB7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88B5A-C4A7-4006-906D-81FB7B2D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BF5B5-F58C-4934-8462-6908BAE0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1AA93-9F87-4627-8FCC-D5F1D18C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B0E4D-D76A-476B-A904-EA4D45D0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17A62-39E8-4ED8-9F5A-5ED5963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DA3A0-65D7-4493-BC60-50C60E09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112-E624-4B9B-9A3A-511FADD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D7ABF-9245-4AD5-BEAC-BD8787F5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9FE37-FF9B-4BAB-8010-AC12D977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F40BD-BAC4-402A-843A-BAADBC0B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01D18-F002-499D-9BFC-7BC25630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FD7BD-D141-401C-8CFE-30D7AAD4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7CC40-940D-453F-9CCF-C2E7E56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EB00C-DAD5-4099-9F8D-5B42EAF1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BBCF6-969D-47ED-A677-C583C025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B5EF5-FF91-4E1C-9A6C-CF65BCA7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9FF9B-0005-4575-8F8F-20AB2FA6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FE4-8EBF-43CD-9945-61D9A187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D77F2-9B7D-4517-A415-94DD186E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D36DA-0823-4A3C-BADC-C87E33B7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3E4E7-B417-45D0-84E9-715F231C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56DBE-DC27-4621-9E64-3285B7EE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BF2E7-1CC8-42A9-8696-000BEFB3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202FE-7E23-47BD-A9EF-7CF54F4F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857F8-8C50-4E8F-B3DC-3A462776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341D0-8847-482E-B765-F8639403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47FB1-7E90-40FA-AC35-CF74DC57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4A083-9BD3-4D77-AADD-BCA6691D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40C-DDA7-47D1-A432-CACE87D2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550C5-44DB-41F0-A15C-6BBE7043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B573C-0B21-414E-9190-5C410CB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75F45-EEFB-4A63-9936-0998AEB4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0E4E1-BE13-4824-9882-6D0FFDF5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09EF3-D0B4-4B03-8A24-3EE84E90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C91F5-BA47-4A28-841E-AD2466F9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D3F72-0A8F-4FD1-8746-D9ACFEF75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0118-7342-496B-B5C9-3C69FA5213B2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52E1-A7B0-42A3-B0E8-DB0EC0A5936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71DE-62F6-4F68-B549-24F92F79E1FC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455C-316A-449C-876C-E8957C80BA9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D492-746C-45E2-B32A-8E549265840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C5E3-42C7-440A-8A1F-55027D66947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DB36-3BEC-4AD9-83F1-FCB0DCD21B1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F98E-773F-40AB-843D-91C42730BC74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706320" y="981000"/>
            <a:ext cx="821232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Informe de Camp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464646"/>
                </a:solidFill>
                <a:latin typeface="Lucida Sans Unicode"/>
              </a:rPr>
              <a:t>Proyecto T-06-10.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Tipo de levantamiento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ipsoide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WGS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staciones de referenci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OLE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324000" y="165240"/>
            <a:ext cx="8369280" cy="129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"/>
          <p:cNvGraphicFramePr/>
          <p:nvPr/>
        </p:nvGraphicFramePr>
        <p:xfrm>
          <a:off x="714240" y="2143080"/>
          <a:ext cx="7786800" cy="182880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1785960"/>
                <a:gridCol w="3214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ÉT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áti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,5 – 2,5 c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ínimo 6 ho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formaciones geológicas, control geodésico, geofísica, grandes líneas de referen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D:\XV_Expedición_Antártica\fotos\Ivan\IVAN SALTOS\25-ENE-2011\P1010368.JPG"/>
          <p:cNvPicPr/>
          <p:nvPr/>
        </p:nvPicPr>
        <p:blipFill>
          <a:blip r:embed="rId2"/>
          <a:stretch/>
        </p:blipFill>
        <p:spPr>
          <a:xfrm>
            <a:off x="1320840" y="1916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D:\XV_Expedición_Antártica\fotos\Ivan\IVAN SALTOS\25-ENE-2011\P1010371.JPG"/>
          <p:cNvPicPr/>
          <p:nvPr/>
        </p:nvPicPr>
        <p:blipFill>
          <a:blip r:embed="rId2"/>
          <a:stretch/>
        </p:blipFill>
        <p:spPr>
          <a:xfrm>
            <a:off x="1554120" y="148104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D:\XV_Expedición_Antártica\fotos\Ivan\IVAN SALTOS\25-ENE-2011\P1010356.JPG"/>
          <p:cNvPicPr/>
          <p:nvPr/>
        </p:nvPicPr>
        <p:blipFill>
          <a:blip r:embed="rId2"/>
          <a:stretch/>
        </p:blipFill>
        <p:spPr>
          <a:xfrm>
            <a:off x="1643040" y="1231920"/>
            <a:ext cx="56912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1: de 17 a 23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M02: de 20 a 25 de enero de 2011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4" name=""/>
          <p:cNvGraphicFramePr/>
          <p:nvPr/>
        </p:nvGraphicFramePr>
        <p:xfrm>
          <a:off x="1285920" y="3357720"/>
          <a:ext cx="6643800" cy="1655640"/>
        </p:xfrm>
        <a:graphic>
          <a:graphicData uri="http://schemas.openxmlformats.org/drawingml/2006/table">
            <a:tbl>
              <a:tblPr/>
              <a:tblGrid>
                <a:gridCol w="1660320"/>
                <a:gridCol w="1662120"/>
                <a:gridCol w="1820880"/>
                <a:gridCol w="15004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ST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NÚMERO DE MEDI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JOR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TIEMPO TOTAL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CT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2:10: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M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IU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3:40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rocesamiento de datos recopilados en campaña de medició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dacción de resultados y conclusiones en base a datos procesado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Campaña de medición en XVI  Expedició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Se mejora el estado de los clavos de la red no permanente de G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se de datos de coordenadas de estaciones BM01 y BM02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Mejorar la protección de los clavos con material impermeabl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dentificar las Baterías utilizadas en la Estación Maldonado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1 Título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A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INOC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Armada del Ecuad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Personal de logística y científicos de XV Expedición Ecuatoriana a la Antártic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1:14:57Z</dcterms:created>
  <dc:creator>Richard Serrano</dc:creator>
  <dc:description/>
  <dc:language>en-US</dc:language>
  <cp:lastModifiedBy>Richard Serrano</cp:lastModifiedBy>
  <dcterms:modified xsi:type="dcterms:W3CDTF">2011-01-26T19:30:23Z</dcterms:modified>
  <cp:revision>6</cp:revision>
  <dc:subject/>
  <dc:title>XV EXPEDICIÓN ECUATORIANA A LA ANTÁRTICA</dc:title>
</cp:coreProperties>
</file>