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729-BFCA-4D6B-8EAE-C64B8BB2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47C-6117-4E46-97D1-6BB94FA4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DE4-3E07-465E-BDF5-0F94264E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3E1-B4A8-409B-8FC9-91DADF3F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1FC3-05AB-4544-9084-7CFB9912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595-981F-4576-AEE8-96B9448F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7A8C-AF4C-4D96-A1C9-B24F4DA0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E77E-80BD-4935-9E93-0E86039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33D8-14DF-4B90-BCE4-BFF3230A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1B04-145E-4326-81EC-B451B67F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8435-A779-4175-A096-A04D8DBB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C68-79EB-45EB-9D1F-B2F4F5FE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BA99-84E2-47AB-BE24-C7C9ABAB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39C8-6AFA-45B6-9B5A-0D8BE2F2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BAC8-747E-40DD-929F-D3C01A04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8E8B-745F-44BE-B3AE-7DF0FAE3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7D3D-2C64-4049-AF7A-EA80248C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AACC-9FA1-4D18-B93D-2DEAA9A0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7426-7BC9-4622-B3BA-9985B793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6011-B8D0-4808-9B0F-A8F22168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78BBD-966D-4CB0-9ABD-822CE350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48C1F-F7C3-4E79-AD2C-5DD0918B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74B-861B-4C9F-A361-038FAD94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1579-0F4E-4D92-8144-231755FE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BBF9-C821-40A3-8F87-3176D771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6FEC-2340-4600-9C45-0302C5BA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C169-68E8-4C63-80FC-940E31A4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B3D11-906B-49EA-B82F-99C31B40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4892-9BEF-4864-B5D6-C86A6C43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696B-A126-4810-8512-AD3A190D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BC1C2-4941-43C6-B714-DFAEE5FC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F6680-297B-4F2F-B80C-FF962128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532EF-B85C-4E01-B1EB-A88E953E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647-DB75-41A0-8DEF-9E901A60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3369-3A12-4A5E-B744-D4BE6B39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75FBF-E4DB-4F67-B785-E88621D4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BE54E-D096-47FE-ACD6-26801AC1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A5B38-6818-4814-8A70-5C5F9DB6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0B3B5-1CFE-46AD-AB35-BDE73BC3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222BD-C292-4981-834E-B577988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5613-747B-4258-B869-CE3A7BD3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80FA-4992-4789-BA8E-85F4A227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4077-FB94-4770-B2FA-183545FB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75B0A-7FCA-46B7-89E2-AE6DE50E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BDF-8E45-4D4C-8D09-5F263DC0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D8B81-5A46-4F86-8ED2-C0F1C83D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39204-82DE-422E-B66C-18B5412B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194CF-F273-4C51-9391-296DF15B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DE51C-8681-418E-AC1C-77A31D55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29CB0-3851-45C3-9DEE-433EE152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B02C6-1653-4A9D-B78E-C0A5A408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FF47-D51B-4A01-8873-D7F63851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EE72-B25D-4083-844A-D790599A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44308-B92F-40FA-A3FB-802022BA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FCA4E-3C15-472D-80DB-7AD9054C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236-F8D0-4E00-93EB-37DDE10D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C46B9-E723-420C-B446-1C99E8D6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BDB1F-6306-4142-AE5C-0DD7EDB0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99E67-3FDA-439D-A1D5-66080B85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42EAB-A38E-4981-90DE-2C8369C3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0CF24-C368-4747-9845-E52B522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D46CE-8BB6-45AE-8D65-F0E28FA1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D979-2D5E-4D08-A313-48883B0C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B309B-9B11-45BC-ADE3-2F314462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F8E7C-2DAC-43D1-B7C2-600D58E0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1C155-6320-4A75-AD6B-6084971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443-44B9-413F-9560-D5B3E032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AF16-3F85-4C5B-A6B4-B9E003DC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28A3-A2FB-42FB-8F20-25D18570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3160-5186-4D3C-903E-841322E8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FD76C-DC7B-400F-B63C-E46FE8D5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485E4-9D75-4CBB-88F3-31DDB5A7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2BC3C-6C88-4371-ACCD-8777603B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F81D1-7766-49E3-8E6A-31B44ADD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D4336-D076-4EB2-B792-03BC36F5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1BFDA-0316-4B57-8D63-89F7CAC9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43652-DF4E-49B2-A11A-C04FC990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BBF-0A76-4A92-B2F5-A308101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20C98-5768-4D8B-A72E-D494BCE7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12FCE-DF50-4A2A-A226-4BB4943B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3607F-449D-44B5-B3C5-34B238D9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5D9CD-0357-42D9-A8D6-76EB8509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D6E63-B83F-43B2-90C4-9D1FD204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97EBD-4B74-4F93-B1F4-2C70AF1F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3AE76-0BB8-476B-96B6-9ED285CC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0E31F-A9BA-4A34-A9E0-D8AE15D1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BE7DB-077C-435D-ADFB-9A52FBED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D05A4-C64F-4C60-9DCD-270172F3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5BD-A93D-4566-85A2-0D495A22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36F23-291E-4398-8E7B-C6DE80B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46A07-8F4D-44C3-B4BB-29C2395F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E8B7F-8492-4580-A11C-39B6FFE7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07D26-E8D6-4FB5-AABF-FEFBEC7F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EB0DE-DF74-4E30-A713-31FF5B22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63B8A-A853-4D1C-A108-38F7B5AB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E4158-BB9C-4228-B089-14FF65FE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ED55-BCC5-4765-9AF1-F5C8D8FCCD0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7E86-0F6B-4016-8035-95CA829AFF0C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33EF-EAAF-46AA-8D61-7793E66FA43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1E67-A8BB-4EF9-AEA7-FC93188D072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58D6-5987-49D0-98B4-A828BDD5B66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B413-4F48-43BC-8EC6-46116A50EE2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738D-5538-4A65-B8E6-B66978D6EDB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F55E-1D5D-4706-AAE3-BB6709BDFF7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981000"/>
            <a:ext cx="821232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Informe de Ca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Proyecto T-06-1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ipo de levant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ipsoide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WGS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taciones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LE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143080"/>
          <a:ext cx="7786800" cy="182880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1785960"/>
                <a:gridCol w="32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á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 – 2,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ínimo 6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formaciones geológicas, control geodésico, geofísica, grandes líneas de refer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XV_Expedición_Antártica\fotos\Ivan\IVAN SALTOS\25-ENE-2011\P1010368.JPG"/>
          <p:cNvPicPr/>
          <p:nvPr/>
        </p:nvPicPr>
        <p:blipFill>
          <a:blip r:embed="rId2"/>
          <a:stretch/>
        </p:blipFill>
        <p:spPr>
          <a:xfrm>
            <a:off x="1320840" y="1916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XV_Expedición_Antártica\fotos\Ivan\IVAN SALTOS\25-ENE-2011\P1010371.JPG"/>
          <p:cNvPicPr/>
          <p:nvPr/>
        </p:nvPicPr>
        <p:blipFill>
          <a:blip r:embed="rId2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XV_Expedición_Antártica\fotos\Ivan\IVAN SALTOS\25-ENE-2011\P1010356.JPG"/>
          <p:cNvPicPr/>
          <p:nvPr/>
        </p:nvPicPr>
        <p:blipFill>
          <a:blip r:embed="rId2"/>
          <a:stretch/>
        </p:blipFill>
        <p:spPr>
          <a:xfrm>
            <a:off x="1643040" y="1231920"/>
            <a:ext cx="56912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1: de 17 a 23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2: de 20 a 25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1285920" y="3357720"/>
          <a:ext cx="6643800" cy="165564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820880"/>
                <a:gridCol w="15004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ÚMERO DE MED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JOR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TOTAL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CT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2:10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:4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cesamiento de datos recopilados en campaña de medició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dacción de resultados y conclusiones en base a datos procesad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mpaña de medición en XVI  Expedi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e mejora el estado de los clavos de la red no permanente de G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se de datos de coordenadas de estaciones BM01 y BM0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jorar la protección de los clavos con material impermeabl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ntificar las Baterías utilizadas en la Estación Maldona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OC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rmada del Ecu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sonal de logística y científicos de XV Expedición Ecuatoriana a la Antárt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14:57Z</dcterms:created>
  <dc:creator>Richard Serrano</dc:creator>
  <dc:description/>
  <dc:language>en-US</dc:language>
  <cp:lastModifiedBy>Richard Serrano</cp:lastModifiedBy>
  <dcterms:modified xsi:type="dcterms:W3CDTF">2011-01-26T19:30:23Z</dcterms:modified>
  <cp:revision>6</cp:revision>
  <dc:subject/>
  <dc:title>XV EXPEDICIÓN ECUATORIANA A LA ANTÁRTICA</dc:title>
</cp:coreProperties>
</file>