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311-6204-4E66-AA39-161F75AF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027-77C1-4EBF-9D43-63333BF5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506-6F66-4B1E-96B9-593667BA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B74-F8E5-45D4-842B-736B27E9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C7CA-4FA0-47DB-8D03-F84AE3A1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9992-B694-4D19-BE82-C7FFF053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1A50-A7E7-4E24-B583-DE7E0CCF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97BE-6FDD-420F-A4E3-BC1D803E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3A61-6909-447F-8BA6-A1E9FCE2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5463-5645-49F5-96F7-77A66942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C085-B513-427D-B5FB-83A1C6D0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74C-B9C2-4199-8119-EF56C8A6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BD55-229E-48E7-84D4-9DB3B9A9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57D6-DECB-4247-BA6F-9365068B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3A96-7DFD-460B-8136-05A45EDA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C3B0-6558-4299-BC60-35084E54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9CA5-410C-4A1D-8093-78FD1CAD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034B-0477-4E0C-BC8B-011B8E2F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8F0D-AD8F-4D75-96C5-D61F6AEF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1D53-4242-4EC7-A3EB-1F113F98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EDBE-E7C3-4683-B05E-AD57C17D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B570-6716-4D9C-A614-B522B075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F15-701F-4EC5-ACAF-75C6468B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C8E11-BE5B-4DEB-A2C2-32C0D608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6FC5-BEAC-449B-8BB2-0FD5658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271A-7F17-4CE8-80A0-8E5177CE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6C53-AD68-48BE-A4C4-C4A3BDD1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E3D2-DE3B-4565-959B-72798DE4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B271A-0B9B-491C-8E26-2B20A29C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34B8-31C9-492A-951D-5E88D419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EE06-5C73-4B7B-A53A-E69678B1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1E6C1-D0F1-46F2-A925-45A9359B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D96CE-84C1-4F0D-8844-69ACE07F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90E-C179-4414-8297-751E76A1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228C5-FEE0-4DD8-A50C-00F41C90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4BC1E-E45D-48C0-AE50-B43FF052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C06B-6639-4AF5-9FB2-A6C5168E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26B83-92C1-4C41-9FE8-C338DF23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D6671-1226-4D50-BFBF-B972B307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2D51B-3920-49AD-9160-614D5E2B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770BE-394C-439A-8443-60C98A6A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9B6F-0EF7-46F9-930F-303BB1AA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C8B3-53F5-486E-ABC6-C7919EB4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1B82-CBE9-410A-8E1A-34A81DEC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E5A-53D3-43B2-B589-D422B52D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55AB6-F825-423D-B832-47F8F7C8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F85D5-8B44-4AF9-A124-3780EEBD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3DBD-8447-43F4-AF5C-DFA14D5B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5401F-2ABD-4515-8CB4-3D4EFAF6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D0CA9-B701-4E5D-A22B-4BA68D5C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E2C3B-21C8-4EB8-9DCC-BFBE68E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2E579-737D-41DA-A8A1-38B439C5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9EE50-BA76-489A-B69B-D1C6E898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2A257-6A3C-45B3-8CD0-9923332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E8CCC-D9C7-4C7A-8AAC-34AA7DD8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EDA-ED44-4E67-8402-AD3BB96A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DFC39-F9E0-4515-911E-020B7B0C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30E46-340B-445A-A4C9-A4FDCE3C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FDC78-BBB7-4381-A597-31F60DE9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4E18F-862E-4280-AD2F-9A70BE1F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13A58-B565-43C5-9CFD-BAC80651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1ECE3-F920-4DB4-9FBC-62505807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1A7B2-4D61-431B-85C3-DF3A0C88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593A3-017B-4A4E-931B-0CE3BB5E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8FCA7-1B77-42AB-A8E1-C9D7C081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18CE1-3FDB-419A-849D-8CCEEFD4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C97-734B-44BA-95B0-B543C485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3812-3681-46A1-92ED-D828F843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2354C-CC11-4B40-8730-F6E7D585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6263-E71A-4CD6-A8AB-5A682521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8E24E-0BEC-44FF-9CA6-3E21C57D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DB729-55D5-42E9-AE29-24283EA3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96688-170F-43CE-9623-3DF587B6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E512-8C1E-4E67-9188-5520B1AC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6C314-60BB-4C17-B3EE-04A074D9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C66A5-4C95-4B2F-9070-321DFD6F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D2912-F974-4B28-A623-26DC054E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B92-CF35-4857-92EA-624C329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EEFFD-7541-45A2-99FB-9E9877B7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CB8FE-9587-498C-BF27-C2CB9A56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9AAF8-45B3-4686-9E70-8A78AC05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F4322-1ACE-461E-93FC-67226B3A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5ECF2-6E72-45CA-AB0C-611D0F0C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CDEEE-68BB-4953-8D32-DDC66983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CB6FC-EC98-438A-90E0-79690CB8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6A31C-CAA8-4DCF-B70E-9AA559FB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EA190-B092-49E1-8878-04D52980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6D2E5-5D4E-40AF-AC4A-35C5CEFA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BD4-8EB8-4D62-9A07-12293F2B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0A8E1-D7E0-4E5B-8450-66BD5DF1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EDF10-F7C4-4E2E-940D-0749AD9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3753A-7F54-49F7-861C-2131C95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9BF69-ED81-47A8-B974-93B56E7C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11DA2-B2C5-4E96-9AF2-CAEC43F0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285DB-726E-4660-A192-16A74FBF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3053A-B943-4007-932C-B4B10CE0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E063-882C-47D4-A32C-A969857DA07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FAEE-08AC-49E5-870A-82067E2759B8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DA9F-4A8A-44FF-A706-E322FFF38674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E139-56D9-4D27-8B47-F6150B749B4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AE3C-AAE6-4C4C-8F40-C537A20F566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A085-AC64-4D48-9466-86DC6449C92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664C-9098-4476-A119-1D437403861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01EF-6D9A-4EB2-A145-489C9FBF1348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981000"/>
            <a:ext cx="821232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Informe de Ca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Proyecto T-06-1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ipo de levant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ipsoide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WGS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taciones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LE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143080"/>
          <a:ext cx="7786800" cy="182880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1785960"/>
                <a:gridCol w="32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á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 – 2,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ínimo 6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formaciones geológicas, control geodésico, geofísica, grandes líneas de refer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XV_Expedición_Antártica\fotos\Ivan\IVAN SALTOS\25-ENE-2011\P1010368.JPG"/>
          <p:cNvPicPr/>
          <p:nvPr/>
        </p:nvPicPr>
        <p:blipFill>
          <a:blip r:embed="rId2"/>
          <a:stretch/>
        </p:blipFill>
        <p:spPr>
          <a:xfrm>
            <a:off x="1320840" y="1916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XV_Expedición_Antártica\fotos\Ivan\IVAN SALTOS\25-ENE-2011\P1010371.JPG"/>
          <p:cNvPicPr/>
          <p:nvPr/>
        </p:nvPicPr>
        <p:blipFill>
          <a:blip r:embed="rId2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XV_Expedición_Antártica\fotos\Ivan\IVAN SALTOS\25-ENE-2011\P1010356.JPG"/>
          <p:cNvPicPr/>
          <p:nvPr/>
        </p:nvPicPr>
        <p:blipFill>
          <a:blip r:embed="rId2"/>
          <a:stretch/>
        </p:blipFill>
        <p:spPr>
          <a:xfrm>
            <a:off x="1643040" y="1231920"/>
            <a:ext cx="56912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1: de 17 a 23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2: de 20 a 25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1285920" y="3357720"/>
          <a:ext cx="6643800" cy="165564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820880"/>
                <a:gridCol w="15004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ÚMERO DE MED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JOR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TOTAL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CT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2:10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:4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cesamiento de datos recopilados en campaña de medició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dacción de resultados y conclusiones en base a datos procesad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mpaña de medición en XVI  Expedi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e mejora el estado de los clavos de la red no permanente de G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se de datos de coordenadas de estaciones BM01 y BM0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jorar la protección de los clavos con material impermeabl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ntificar las Baterías utilizadas en la Estación Maldona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OC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rmada del Ecu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sonal de logística y científicos de XV Expedición Ecuatoriana a la Antárt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14:57Z</dcterms:created>
  <dc:creator>Richard Serrano</dc:creator>
  <dc:description/>
  <dc:language>en-US</dc:language>
  <cp:lastModifiedBy>Richard Serrano</cp:lastModifiedBy>
  <dcterms:modified xsi:type="dcterms:W3CDTF">2011-01-26T19:30:23Z</dcterms:modified>
  <cp:revision>6</cp:revision>
  <dc:subject/>
  <dc:title>XV EXPEDICIÓN ECUATORIANA A LA ANTÁRTICA</dc:title>
</cp:coreProperties>
</file>