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4A4-1525-4989-B656-8D6B62DF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C11-696E-4F1E-8D91-5F679950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F75-15A6-4F37-B82F-5D2C9CC8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4E0-C918-4C7B-A7B2-36FBA354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CFD1-B10C-480C-8537-02ED2562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7E77-D7CE-4A68-A429-88E09164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7041-B586-4186-A029-83AAA219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34CA-17DB-4537-B6E0-C8846255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6DB5-D5A2-4D11-8CFD-F48C637A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A49B-956E-4BE3-8EB5-52491B9D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495A-1F34-4F3E-B767-E2F978EF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C804-3EF1-40C8-96B1-7E3BA3C8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27EE-4E77-4CEB-8F4A-0945733D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6586-D094-4753-93B3-782D620C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BC66-E492-43CD-B72E-D0F0204D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BED1-78D8-401E-95E7-7740F431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AECE-4996-437D-85B6-E18D8DDA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F466B-7924-4D8B-89F9-F19E0762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586F7-FDD5-46BE-ADD9-ECB2236C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70DEF-ABF5-4F10-B052-39E48C76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80059-0379-4E58-AA8F-74C24D04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4409D-3688-4C37-8588-E349248B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D5F-E531-4168-84A1-B8FE81A0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140AB-8826-4460-BF5A-DD791F5A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5DDBE-917D-4A6C-AE2E-EC75637A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C00C5-5BB4-439C-9154-5304B561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94F1F-78A0-4C97-A359-BAA6B6CB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7E3F3-A13F-4156-8920-B29D630A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7E52E-5889-4D48-8BED-1367A78D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5C68F-F2CD-4C19-8E10-D182C1B5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31E49-060A-43EF-AA46-BFE4516A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816B8-A69D-4D28-96F1-B716B825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A1711-D17B-4B23-8CC8-5EB2BF92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0C1-27D2-4C4E-8E8F-8555C7F1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92059-1E6D-496C-899E-FE2428F2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4083A-46BB-4939-86EB-54A44483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9968F-50C4-46CF-BA19-6AC78524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78033-AFF2-4F6F-991C-C53B259E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A3766-A8C8-49B7-B7A1-E2A1068D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A687C-0232-4419-917F-F0C401C3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84C30-1F29-4207-88DF-18335C6D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736BE-E331-47BD-99A4-0C6AB581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8745F-9ECE-4771-85E1-EE883CAD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B4608-9AB3-4478-B93E-DE437EB0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454-0354-4C8F-9781-32038F67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5EACB-9B33-4A12-BE80-8BAA5FBD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88690-72F3-459E-8522-31CD1AA4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34A4E-6087-400B-AFB1-EFBAFC1E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BA8F4-28B1-49B8-BAD2-8AE33DC2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6E122-0A4C-47CC-9BC1-685AD2A7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FDE74-2B86-4323-AFE1-31009FF3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75246-C5B4-48D6-924F-E708A017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C95C1-4E08-4CD5-A4E8-EE460017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01939-0CFE-45A3-931C-99762D0F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E345B-9C47-46F4-9A6A-AEC9092D8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DBD-8C07-4B70-AF8A-91355E4D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8FE1E-EF9B-4258-82BB-386CF1CE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E02CA-DC25-4506-9E04-543D1CC2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3E4BD-11AA-4E9E-8B58-032FE7F3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0F486-5188-411B-B636-D38EB269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FF146-3BC6-429A-B39A-2E3F7ED6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384B0-4430-44B6-8592-E693659E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1DD8D-6C8D-4464-8558-A57BC545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DD23A-017B-4916-8964-FC997795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7F11D-BE5D-4257-AE52-D4871CD2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C03C8-A335-4DAA-8A02-D5ACB284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531E-B376-4FD2-9905-2C5E4DBF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9EFAC-D889-491B-8CD6-3873AD45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FC69A-50CC-41A3-BA41-37BDAFE9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36368-EC49-4D7E-B237-8FD9A2CD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B698D-778E-403C-91DA-295BECB5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AE1FE-5A34-461E-A0B1-AAB0AEA0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B2B28-9408-4444-8D02-9024EF48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B6475-0D12-452D-9482-A77B01DB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D50C4-8A06-40AE-BA03-05F00D3C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F7D4C-CEE8-4BD5-B72A-A9961743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8CFEE-240E-4AC9-AB93-F1465176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C39C-95B7-4019-90CF-80D485EF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431FF-9DA0-4CFC-AD9C-ED0A84BA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50443-6A7C-412C-A7C0-E93CAEE3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AAEAF-7C21-4FA3-80FF-7044F3FA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F02B6-5EF2-4F6E-A006-27DCFD74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D161A-3541-4978-BA3F-BFF5F342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F6A7E-4451-4B0B-A1FC-A3400465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77885-76B1-4A13-B800-B755C86C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C5450-A9AD-4D91-A667-34F87DE4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92B66-1157-4D94-9F38-94FB243A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0DD7A-3AE9-47CF-9656-14DA1084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22CB-C600-4B81-B0AB-4222EDE3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83F36-0CDD-4140-B3FB-835937C6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BA0A1-C918-44FE-ADD9-9C8DAD29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24A59-D82A-432F-80FF-31D6FE11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ECA0B-C033-451D-B29F-A695AEC7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9EFBD-DDCB-4699-87E9-E6308BDF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C4DDB-D409-4858-A190-7FAF8C27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DE1F7-C3B9-4AC8-B327-683EB2D4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3BF9-447A-4197-B42D-BCF25447EA7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9BE3-E7C2-49C9-833E-F660B3A82C84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D8F5-2C49-4C61-86F4-E146A6B48152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4869-5BB6-4B6F-9E6C-1EFFD471FC08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A8AF-5174-4922-9596-B27B9C0D512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E73E-C966-4CA2-954F-3EFE8D9F6F1F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F62F-E24F-47F0-BA21-58B8C90AFFC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DB82-3C75-4C89-9E03-D4E2D2220F33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706320" y="981000"/>
            <a:ext cx="821232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Informe de Camp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Proyecto T-06-10.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Tipo de levantamie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lipsoide de referenc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WGS8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staciones de referenc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OLE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324000" y="165240"/>
            <a:ext cx="8369280" cy="12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714240" y="2143080"/>
          <a:ext cx="7786800" cy="1828800"/>
        </p:xfrm>
        <a:graphic>
          <a:graphicData uri="http://schemas.openxmlformats.org/drawingml/2006/table">
            <a:tbl>
              <a:tblPr/>
              <a:tblGrid>
                <a:gridCol w="1214640"/>
                <a:gridCol w="1571400"/>
                <a:gridCol w="1785960"/>
                <a:gridCol w="3214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ÉT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EMPO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APLIC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á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,5 – 2,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ínimo 6 ho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formaciones geológicas, control geodésico, geofísica, grandes líneas de refer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D:\XV_Expedición_Antártica\fotos\Ivan\IVAN SALTOS\25-ENE-2011\P1010368.JPG"/>
          <p:cNvPicPr/>
          <p:nvPr/>
        </p:nvPicPr>
        <p:blipFill>
          <a:blip r:embed="rId2"/>
          <a:stretch/>
        </p:blipFill>
        <p:spPr>
          <a:xfrm>
            <a:off x="1320840" y="1916280"/>
            <a:ext cx="6502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D:\XV_Expedición_Antártica\fotos\Ivan\IVAN SALTOS\25-ENE-2011\P1010371.JPG"/>
          <p:cNvPicPr/>
          <p:nvPr/>
        </p:nvPicPr>
        <p:blipFill>
          <a:blip r:embed="rId2"/>
          <a:stretch/>
        </p:blipFill>
        <p:spPr>
          <a:xfrm>
            <a:off x="1554120" y="148104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D:\XV_Expedición_Antártica\fotos\Ivan\IVAN SALTOS\25-ENE-2011\P1010356.JPG"/>
          <p:cNvPicPr/>
          <p:nvPr/>
        </p:nvPicPr>
        <p:blipFill>
          <a:blip r:embed="rId2"/>
          <a:stretch/>
        </p:blipFill>
        <p:spPr>
          <a:xfrm>
            <a:off x="1643040" y="1231920"/>
            <a:ext cx="569124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M01: de 17 a 23 de enero de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M02: de 20 a 25 de enero de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1285920" y="3357720"/>
          <a:ext cx="6643800" cy="1655640"/>
        </p:xfrm>
        <a:graphic>
          <a:graphicData uri="http://schemas.openxmlformats.org/drawingml/2006/table">
            <a:tbl>
              <a:tblPr/>
              <a:tblGrid>
                <a:gridCol w="1660320"/>
                <a:gridCol w="1662120"/>
                <a:gridCol w="1820880"/>
                <a:gridCol w="15004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S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NÚMERO DE MEDI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JOR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EMPO TOTAL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M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CTU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2:10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M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U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3:40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rocesamiento de datos recopilados en campaña de medició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dacción de resultados y conclusiones en base a datos procesad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ampaña de medición en XVI  Expedició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Se mejora el estado de los clavos de la red no permanente de G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ase de datos de coordenadas de estaciones BM01 y BM0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ejorar la protección de los clavos con material impermeabl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dentificar las Baterías utilizadas en la Estación Maldonad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1 Título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85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A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OC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rmada del Ecuad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ersonal de logística y científicos de XV Expedición Ecuatoriana a la Antártic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21:14:57Z</dcterms:created>
  <dc:creator>Richard Serrano</dc:creator>
  <dc:description/>
  <dc:language>en-US</dc:language>
  <cp:lastModifiedBy>Richard Serrano</cp:lastModifiedBy>
  <dcterms:modified xsi:type="dcterms:W3CDTF">2011-01-26T19:30:23Z</dcterms:modified>
  <cp:revision>6</cp:revision>
  <dc:subject/>
  <dc:title>XV EXPEDICIÓN ECUATORIANA A LA ANTÁRTICA</dc:title>
</cp:coreProperties>
</file>